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44C06-5D82-4477-A72C-71F7083DB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04A45-8BCB-434C-B654-898624044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D714FB-72F4-4218-9D1C-FD2FA494D6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6D09B9-E18C-4A92-852C-2147CF0AB4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08C051-C05C-4E61-8DBE-9F12E2767B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1FCC4A-A362-4EAA-AB1F-D906049D9D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3FC404-EE1E-4E98-8AF1-075A00D046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35548B-602D-4F57-994D-2109623EF5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EEC2AF-9853-4AA5-BAFB-3CEAFF0EF7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AFDC72-25B5-407B-A29B-13EBB54819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0D1C62-658A-437D-A0C9-8299EA6C5C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22A73F2-3102-46BF-9C38-22F45E044AB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4BDEF-CFFA-43D4-9ACF-B1262874D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BCABF7-2D2D-44CE-959C-4DFF96AD25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45201C-FBB4-4DCD-8AD2-DA94F8719D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65FB21-3101-4FFB-8A12-CE21E856E4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11AE4C-E99A-4E68-BC02-9A40E6E9FC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6D34EF-A674-49CB-920B-6B3EFB9445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1D65FC-FEAC-44B2-8A60-7194565972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91F25E-5343-49EA-95F3-43D67D71C7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4BBE56-AE84-4458-82DF-1F73D0ED62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BE7687-824C-436F-85DC-EF7A5C898D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1D2880F-0B50-42C1-A800-C366948D03B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3CFB9-3ECA-417B-AEC8-6690BFB73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B9EC8F9-D971-4187-9518-0FA7CB19AA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2B68812-52C5-4151-B4B3-7545EDD56F3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F78A0C-8268-4418-B756-D6EB1D2DF5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8DF424-C7AA-47F4-9231-686BF69ED0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C796F5-C18C-46E7-BC97-60D4BC23DC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EB2980-B0FD-41D2-9132-4B69930784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BE1C52-F1D9-4728-AFE4-B0E3800C13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6C06EB-C8B8-4232-984F-D176CD939E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768858-A07A-4408-8B0D-35CFC00983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189706-BFBE-4520-9041-0B9446ADBB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DA770E-5615-4784-A7D2-E557C40323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BC9AE1-C439-4432-B26B-48C26FCFAF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FF78A5B-310E-4AFE-9A63-F9A5BB780A2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B1A719-758B-407C-B635-D3F41C57F38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0DF9D84-28DD-48F3-8194-9AD03C35580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7AE48E-7656-442C-A4BF-2041FC135C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B823E7-204A-4F32-A9E2-D039A275F0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587383B-9C26-4568-80BB-F7FA445681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F8494D-67BC-4E06-933E-8A60D4D426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7F61BC-9425-419E-A0A0-2B41A51EAF2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AF15B4-3C5D-44DA-9003-B305DD34A8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8B1A7-8DF8-4A86-A3AE-2E93ECD31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A8B557-3FC5-4105-B0BA-BABD05A490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BCBF98-0779-44DD-89E3-C4EFDDD458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83223A-6546-4A90-9C24-3099F4FC08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FDF38F-0FE0-433E-8067-A70F369779D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7A5C34E-5A32-4871-BEEF-405DCBFABF7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E4863A8-2652-4B15-907B-6C8211AE1AE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CBE521A-5503-432E-B554-AA28A3E6628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89D7F08-2212-4E5C-B20D-B1D2DDCDDE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6A64F2-3AC2-4AF1-99A9-4FFDE58089D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5485FDF-9119-4FFC-BA4C-2CAF27AD3BE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94FDE-B8E3-4948-9C8A-ED5219137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3FE705-7F72-4C28-89CF-30881A74F94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12E33B-F5BE-4068-BD49-67DE1420FC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FFCA23B-37B4-4989-A55D-13D44B9D3B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09AC36-E21A-460B-A003-B6AA801C52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8EC17AF-4E3E-4F77-A1FF-48F6E8EB4A7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A3346D9-F316-4EFC-8EC8-718CB48A965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35FF2A1-2120-48EC-9562-3272F4EAA51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67B8172-6125-4762-A2A4-C2FFE3DC15D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39B9B72-99B9-4E97-88B9-D45CABE3A40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B521F18-13F8-4C45-B1D3-7CA02FF6FF0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746FA-12DD-4BC5-9297-E5D8EE9F6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AE806B7-C97A-47D5-A01C-5CABB123452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4BD5369-C9EE-42BB-A645-156BCEB7001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31FD0FF-9C62-4C87-8818-C6694857762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3D9417-39B9-4E5F-B42B-2F4DEF5DF04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F3E5B2-2556-4E98-B149-BFF2113CB24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E444F8C-455C-48A3-A5FC-C87BAEB2246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2E21A2F-F603-47AC-80C0-25A88C42D59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17D40F4-3621-4EC9-85F4-B73385F455B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2969E81-A95A-463A-993E-3795919CFE3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D543516-2B19-4C89-9EB8-0C461DA1297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88E8B-5FCB-4B88-BD49-72A65BBAC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F02EA80-9174-4831-BFD1-A35C9C07E43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B881760-3B2B-41EF-90DD-594EFCB0357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4ABE022-AFFB-4389-8D22-E37C1EF782C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464A485-ECF8-4AE2-976B-3C4E82809A9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926C517-0F50-4477-AEF3-B5499C7B1F3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CC969F-0A78-4106-A721-BEC97516550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7B39D46-8B70-4A37-B19C-D5880E4B20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C2C8548-34A0-4F43-9242-8EB1784C87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EB925DE-35EB-45C3-ACE8-FFF7268A153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33FF896-1167-4234-9D92-558B073EE08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C5AB3-387A-43C7-B167-3BFF1C9A0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F54F45E-4A27-4831-ABFF-86AF55D1A4A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4648D02-A1B0-4617-8059-2F6EF9A8563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CA654CA-79A4-42B6-BC7E-B3A4ADE99EF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F23AF16-2EC9-438E-80E7-2E6682DA2C8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D945497-C152-4EEE-8F89-86D80C5C0F6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EB202A0-65E9-4520-9F82-4FE68246A48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5F9D2A8-5998-4ACD-B400-5BA5C7C6BE9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2ADAC9D-480A-4B83-B00B-468CE3691C2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6081A87-92C7-47B9-98E5-7FD876326AA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A7E4FA7-1379-4C6B-A11E-17A4C830629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20D7E-BAED-4346-80F7-9A787CEF7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5323B54-E7A8-4ECC-B57F-493FAFE25D5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B1DF869-2D9A-412C-B5B6-636C6D9362A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77A8638-0146-4ECF-A4A1-079A948EBE3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E4EF4D1-3666-4B9E-A660-AC247DE4551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C54B13B-319A-4112-A0E9-0094DCF2816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48B93B2-6275-4C5A-9420-F019380587E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335B656-E961-4148-8A08-2EFE12F21F1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71D86C8-4171-4E24-8BDA-4D9957BF53F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83CD4D1-5A63-4F26-AA10-089F4EE7BF5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C5ADFC6-1969-43E1-87A8-73579F48F93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EA35D-0FB7-41FF-9C88-A0D74BEE8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0013F-8CA4-4B0D-9AB6-C7457B673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DC24658-B2B4-4969-94F6-1B92CC47461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08CE373-B378-4AD7-A5A8-7865D2CC116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76BF1F1-3FD0-4392-B0B3-5CD27F8706F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1570E4F-AAD1-4834-A84E-56F7C21FCE6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BF1F676-7009-4829-B444-FBDB402981F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BBE931E-1A6D-42FC-AB5C-265C09059FC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65CB87E-114C-475B-953F-1042B22E4BA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CC662E1-427A-4963-9838-6C95A706E34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E8419CF-41E6-4A4D-87D1-44CC3F5136D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64E2AAF-A818-4C24-A831-26B89521256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5744E-8348-434F-8062-F0B3FE613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66638CA-DE24-4074-ADA3-62934B0ED37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1FFCEF3-F7C2-44CB-82A5-7736CD715D5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38B6B5A-DB76-4219-B891-1C4288E0F8B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7DE2E8D-D75C-4ADC-8A60-D9A93A43B01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23D9C39-9694-495F-B080-C62AE77E626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E7742FA-E76A-4F56-9F2E-02BA8EEBFC8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6CA5985-A365-4998-8D76-21A485697B3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45DCA-6D91-4391-8EBC-0FEEA1CF8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9FAEA0-94FC-4A17-A4AD-3BEDB4C02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F4D8F9-36D0-409D-9608-D57704A4E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0A7503-A2AE-4B87-B2F4-89E6991030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D21E6F-84F9-4E70-BE01-8B8A7F25A9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D42134-E735-433F-9654-3C74E586E5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84F998-5B46-4D01-90A0-69250B527A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422B88-0A0E-4A22-BE24-3BE0B5243C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1D85A-5560-4E1E-B24E-6CF763F9D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4808BA-A138-4912-9F4C-1274163BDC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83E579-2F43-46B6-9A09-C43EBB8E82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47EAD-8E2E-42B6-907C-D20137596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7D058C-1CE0-4283-B854-B9BFA7B2EC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06B5AD-3A18-42DC-AA87-4093FE1A19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F72926-C5C6-468A-85EF-BE23D1687F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3ACF2B-AADC-4BF9-98A9-4C6C659AD0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9F6863-F0C0-4169-8385-221D08C8FA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D46ED3-3117-4D58-83DF-3E7F81EBC4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B1B1D8-2D78-474B-B641-3DC27A3FC0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3A0CE-C8DB-471B-A061-C29E9E252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B48B13-D23C-4382-91A2-8BE98D131A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5FBA3F-D0C7-4BD4-90C7-9E6D9D403F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1B1A7E-E599-47FC-8519-B200F87540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1776A8-BA9E-4357-8A7A-9152DFB982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2CC470-12C3-4EFF-9DA2-F2A68FE284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0A56BB-1DCF-4733-9AFC-4CF35F51D7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AA7B8E-9513-4AB7-BA85-D63CEB66E8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985B35-225E-4747-9494-CA547BEB59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4371DA-05B5-4F29-82DB-6508CD4DB2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25E484-D7D6-48B8-9EBB-FBEBE4C3E9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A3C22-F86B-45DC-BF33-8D5DFB9FE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B2EEAE-4ED6-409D-B8CE-79FB8CCB82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56AA70-3439-48BF-896A-FD179B7A39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7E3706-8EE2-4D8B-91B7-F63253A3B9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DB0427-7C90-42A8-82CD-453560F9F7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B5371A-8F77-48D5-8005-915508AF3C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8CEC49-BAB2-4961-82C0-FF7C4EFDEF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9292DD-6C15-4AF3-B8F4-2917CC8135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D6E36-427C-4DF6-B6B2-E6046A9791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15E58E-0760-46FF-9907-26850E0F37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AF4622-22DF-4F69-9C2F-9DD1F05FF6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A58CE-8F2C-4D7E-ADB0-C5516A7F5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95C294-90B9-49F3-B488-B274B6C9C4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C5D688-2FCB-4E80-9F58-82C442AFF8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ED378E-2D93-406C-8EB5-F818992FF4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68C1DC-042B-4C55-93E4-4E15852780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997D0E-0B79-4227-A535-09B76F880E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BB19BC-461C-4521-AD9E-386C274588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CE8463-29BF-482F-BDA7-6879D99EAD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6C4840-3F30-4413-9919-7E5E46CC78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41D71F-CBED-479A-8FB3-D880CD0A6C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49E996-6B44-47A9-87A9-8DC970B4E5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1741B-1723-4BB0-8937-E7DB60F35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320DAE-3628-409D-BAB3-85AC137C14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AAD58D-92C7-4211-941E-9AABCE38B8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19532D-14B1-4D8F-9789-6EFF076AAA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2F8A74-A614-46FF-8155-1D64D1DE22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743FD3-A707-4817-91D1-55346D63E1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9E0350-745B-43CB-9CD3-6A93B4DA06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A7443A-57D7-4BE5-9D77-3F37C03A03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096406-7D4C-4B29-8571-3FFFFA9EB9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CE841D-6AAA-469B-AACB-9A40C6D982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55DF95-D343-4E36-8662-310140E3B6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1FC94-740E-40CD-85F0-AEAC127D5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C8A6F0-BADA-4D95-BD45-73359772FE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BC273D-ECD7-4490-8B7E-31374D7A95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987C31-043A-444C-9F8D-6985C98AC3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C8F08D-74E6-4DA5-A218-95E4EF94AA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53A24E-85E0-495A-ACE8-1EB4E07E46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4E73EE-033C-43F9-8B35-C06453F02B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ACF8A5-915E-4EF9-8E9F-9B5838E282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77C759-98A3-47C0-876C-29AA705CBA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5CF6F0-BD17-440F-97A3-DA1E738C61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8A1712-B8DC-4FB0-9ABE-EEBD0E87F9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4B14F-ADF5-4B29-B681-31FC1D301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73D13D-8A03-4BAA-A9A8-6D7C6D4C9A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A4D4CF-247C-41EE-9F25-3661F37765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D3B80C-B468-45C4-849B-1803610B3F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FA521D-293D-4AFA-A1AF-9B35B26934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0BBE7A-A5B7-44DD-83B9-232ADB0D54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7A7D6D-35F1-4292-9258-49C70EEF86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F32633-97D7-40CF-83F4-4668F388AE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740263-4579-46E3-88C2-DF8D0D6A1F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2ECDD0-55EF-45BB-AF11-80AB1C93A6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D5480E-7A47-451B-A87F-00DEB275F89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35246-9A1C-45BE-8B77-B5EF89C8597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7"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F6F1C-7220-4EFE-945C-2DB986D5AB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7"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377AA8-DA43-4822-81D2-7C65FABE4DD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3703E5-F35E-4BFC-A84A-EADEA20D62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7" descr="Droplets-HD-Content-R1d.png"/>
          <p:cNvPicPr/>
          <p:nvPr/>
        </p:nvPicPr>
        <p:blipFill>
          <a:blip r:embed="rId3"/>
          <a:stretch/>
        </p:blipFill>
        <p:spPr>
          <a:xfrm>
            <a:off x="0" y="0"/>
            <a:ext cx="12192120" cy="6858000"/>
          </a:xfrm>
          <a:prstGeom prst="rect">
            <a:avLst/>
          </a:prstGeom>
          <a:ln w="0">
            <a:noFill/>
          </a:ln>
        </p:spPr>
      </p:pic>
      <p:sp>
        <p:nvSpPr>
          <p:cNvPr id="517" name="TextBox 8"/>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9"/>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E8CAE-B83B-4FC1-8EC1-EC41508742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48D245-4530-463B-9A4E-FF32544FC2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FEE56C-1459-46DE-A5E0-72D888D82BC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7"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691FCC-BDA2-45F7-906C-10F85A26DB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11D2C-5676-4155-BEA0-5BEAA056F7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7"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D91CF-4CB2-4007-A6A6-F7C35E5C11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7"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7DD9D-83B5-4C1F-A4AA-777CB387DD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7"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BF4ABD-7019-4997-8064-9136BC79762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7"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5831C7-8780-43E2-B152-5CEECE65353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7"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4D5494-AB3D-47DB-A7BE-467F05E6FB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7"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7A790-BADE-4EB4-B020-8DBDC03374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D5135A-D94B-44E6-888C-FC60890EEEE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7"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67C4A-02C4-4537-8C1F-B54F45370C4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7"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EE738-FD8E-46B9-A223-ADA03D123F9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750680" y="274680"/>
            <a:ext cx="8690040" cy="1417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Tw Cen MT"/>
                <a:cs typeface="B Nazanin"/>
              </a:rPr>
              <a:t>بسم الله الرحمن</a:t>
            </a:r>
            <a:br>
              <a:rPr sz="4800"/>
            </a:br>
            <a:r>
              <a:rPr b="0" lang="fa-IR" sz="4800" spc="-1" strike="noStrike">
                <a:solidFill>
                  <a:srgbClr val="000000"/>
                </a:solidFill>
                <a:latin typeface="Tw Cen MT"/>
                <a:cs typeface="B Nazanin"/>
              </a:rPr>
              <a:t>الرحیم</a:t>
            </a:r>
            <a:endParaRPr b="0" lang="en-US" sz="4800" spc="-1" strike="noStrike">
              <a:solidFill>
                <a:srgbClr val="000000"/>
              </a:solidFill>
              <a:latin typeface="Tw Cen MT"/>
            </a:endParaRPr>
          </a:p>
        </p:txBody>
      </p:sp>
      <p:sp>
        <p:nvSpPr>
          <p:cNvPr id="776" name="PlaceHolder 2"/>
          <p:cNvSpPr>
            <a:spLocks noGrp="1"/>
          </p:cNvSpPr>
          <p:nvPr>
            <p:ph type="subTitle"/>
          </p:nvPr>
        </p:nvSpPr>
        <p:spPr>
          <a:xfrm>
            <a:off x="1750680" y="2185560"/>
            <a:ext cx="8690040" cy="30718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2689ad"/>
                </a:solidFill>
                <a:latin typeface="Tw Cen MT"/>
                <a:cs typeface="B Nazanin"/>
              </a:rPr>
              <a:t>حسابداری بهای تمام شده – بهایابی</a:t>
            </a:r>
            <a:r>
              <a:rPr b="1" lang="fa-IR" sz="2100" spc="-1" strike="noStrike">
                <a:solidFill>
                  <a:srgbClr val="2689ad"/>
                </a:solidFill>
                <a:latin typeface="Tw Cen MT"/>
                <a:ea typeface="B Nazanin"/>
              </a:rPr>
              <a:t> </a:t>
            </a:r>
            <a:endParaRPr b="0" lang="en-US" sz="21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2689ad"/>
                </a:solidFill>
                <a:latin typeface="Tw Cen MT"/>
                <a:cs typeface="B Nazanin"/>
              </a:rPr>
              <a:t>رشته حسابداری</a:t>
            </a:r>
            <a:endParaRPr b="0" lang="en-US" sz="22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7f7f7f"/>
                </a:solidFill>
                <a:latin typeface="Tw Cen MT"/>
                <a:ea typeface="B Nazanin"/>
              </a:rPr>
              <a:t>             </a:t>
            </a:r>
            <a:r>
              <a:rPr b="1" lang="fa-IR" sz="2200" spc="-1" strike="noStrike">
                <a:solidFill>
                  <a:srgbClr val="2689ad"/>
                </a:solidFill>
                <a:latin typeface="Tw Cen MT"/>
                <a:cs typeface="B Nazanin"/>
              </a:rPr>
              <a:t>مقطع کاردانی ترم یک</a:t>
            </a:r>
            <a:endParaRPr b="0" lang="en-US" sz="22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2689ad"/>
                </a:solidFill>
                <a:latin typeface="Tw Cen MT"/>
                <a:cs typeface="B Nazanin"/>
              </a:rPr>
              <a:t>تهیه و تنظیم : الهام امین ابراهیم آبادی</a:t>
            </a:r>
            <a:r>
              <a:rPr b="1" lang="fa-IR" sz="1700" spc="-1" strike="noStrike">
                <a:solidFill>
                  <a:srgbClr val="2689ad"/>
                </a:solidFill>
                <a:latin typeface="Tw Cen MT"/>
                <a:ea typeface="B Nazanin"/>
              </a:rPr>
              <a:t> – بهار </a:t>
            </a:r>
            <a:r>
              <a:rPr b="1" lang="fa-IR" sz="1700" spc="-1" strike="noStrike">
                <a:solidFill>
                  <a:srgbClr val="2689ad"/>
                </a:solidFill>
                <a:latin typeface="Tw Cen MT"/>
                <a:ea typeface="B Nazanin"/>
              </a:rPr>
              <a:t>1399</a:t>
            </a:r>
            <a:endParaRPr b="0" lang="en-US" sz="17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7f7f7f"/>
                </a:solidFill>
                <a:latin typeface="Tw Cen MT"/>
                <a:ea typeface="B Nazanin"/>
              </a:rPr>
              <a:t>                     </a:t>
            </a:r>
            <a:endParaRPr b="0" lang="en-US" sz="1500" spc="-1" strike="noStrike">
              <a:solidFill>
                <a:srgbClr val="000000"/>
              </a:solidFill>
              <a:latin typeface="Tw Cen MT"/>
            </a:endParaRPr>
          </a:p>
        </p:txBody>
      </p:sp>
      <p:pic>
        <p:nvPicPr>
          <p:cNvPr id="777" name="AUD-20200407-WA0000.mp3"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77"/>
                    </p:tgtEl>
                  </p:cond>
                </p:stCondLst>
                <p:childTnLst>
                  <p:par>
                    <p:cTn id="3" nodeType="clickEffect" fill="hold">
                      <p:stCondLst>
                        <p:cond evt="onClick">
                          <p:tgtEl>
                            <p:spTgt spid="777"/>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44606" fill="hold"/>
                                        <p:tgtEl>
                                          <p:spTgt spid="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14040" y="182160"/>
            <a:ext cx="10363320" cy="841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تمرینات و تستهای نمونه</a:t>
            </a:r>
            <a:endParaRPr b="0" lang="en-US" sz="3600" spc="-1" strike="noStrike">
              <a:solidFill>
                <a:srgbClr val="000000"/>
              </a:solidFill>
              <a:latin typeface="Tw Cen MT"/>
            </a:endParaRPr>
          </a:p>
        </p:txBody>
      </p:sp>
      <p:pic>
        <p:nvPicPr>
          <p:cNvPr id="818" name="Content Placeholder 3" descr=""/>
          <p:cNvPicPr/>
          <p:nvPr/>
        </p:nvPicPr>
        <p:blipFill>
          <a:blip r:embed="rId1"/>
          <a:stretch/>
        </p:blipFill>
        <p:spPr>
          <a:xfrm>
            <a:off x="1243080" y="1133640"/>
            <a:ext cx="10406160" cy="5257800"/>
          </a:xfrm>
          <a:prstGeom prst="rect">
            <a:avLst/>
          </a:prstGeom>
          <a:ln w="0">
            <a:noFill/>
          </a:ln>
        </p:spPr>
      </p:pic>
      <p:pic>
        <p:nvPicPr>
          <p:cNvPr id="819" name="AUD-20200409-WA0008.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restart="whenNotActive" nodeType="interactiveSeq" fill="hold">
                <p:stCondLst>
                  <p:cond evt="onClick">
                    <p:tgtEl>
                      <p:spTgt spid="819"/>
                    </p:tgtEl>
                  </p:cond>
                </p:stCondLst>
                <p:childTnLst>
                  <p:par>
                    <p:cTn id="73" nodeType="clickEffect" fill="hold">
                      <p:stCondLst>
                        <p:cond evt="onClick">
                          <p:tgtEl>
                            <p:spTgt spid="819"/>
                          </p:tgtEl>
                        </p:cond>
                      </p:stCondLst>
                      <p:childTnLst>
                        <p:par>
                          <p:cTn id="74" nodeType="withEffect" fill="hold">
                            <p:stCondLst>
                              <p:cond delay="0"/>
                            </p:stCondLst>
                            <p:childTnLst>
                              <p:par>
                                <p:cTn id="75" nodeType="clickEffect" fill="hold" presetClass="mediacall" presetID="1">
                                  <p:stCondLst>
                                    <p:cond delay="0"/>
                                  </p:stCondLst>
                                  <p:childTnLst>
                                    <p:cmd type="call" cmd="playFrom(0.0)">
                                      <p:cBhvr>
                                        <p:cTn id="76" dur="321294" fill="hold"/>
                                        <p:tgtEl>
                                          <p:spTgt spid="8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914040" y="374760"/>
            <a:ext cx="10363320" cy="532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pic>
        <p:nvPicPr>
          <p:cNvPr id="821" name="Content Placeholder 3" descr=""/>
          <p:cNvPicPr/>
          <p:nvPr/>
        </p:nvPicPr>
        <p:blipFill>
          <a:blip r:embed="rId1"/>
          <a:stretch/>
        </p:blipFill>
        <p:spPr>
          <a:xfrm>
            <a:off x="447840" y="493560"/>
            <a:ext cx="11091600" cy="5897880"/>
          </a:xfrm>
          <a:prstGeom prst="rect">
            <a:avLst/>
          </a:prstGeom>
          <a:ln w="0">
            <a:noFill/>
          </a:ln>
        </p:spPr>
      </p:pic>
      <p:pic>
        <p:nvPicPr>
          <p:cNvPr id="822" name="AUD-20200409-WA0004.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restart="whenNotActive" nodeType="interactiveSeq" fill="hold">
                <p:stCondLst>
                  <p:cond evt="onClick">
                    <p:tgtEl>
                      <p:spTgt spid="822"/>
                    </p:tgtEl>
                  </p:cond>
                </p:stCondLst>
                <p:childTnLst>
                  <p:par>
                    <p:cTn id="79" nodeType="clickEffect" fill="hold">
                      <p:stCondLst>
                        <p:cond evt="onClick">
                          <p:tgtEl>
                            <p:spTgt spid="822"/>
                          </p:tgtEl>
                        </p:cond>
                      </p:stCondLst>
                      <p:childTnLst>
                        <p:par>
                          <p:cTn id="80" nodeType="withEffect" fill="hold">
                            <p:stCondLst>
                              <p:cond delay="0"/>
                            </p:stCondLst>
                            <p:childTnLst>
                              <p:par>
                                <p:cTn id="81" nodeType="clickEffect" fill="hold" presetClass="mediacall" presetID="1">
                                  <p:stCondLst>
                                    <p:cond delay="0"/>
                                  </p:stCondLst>
                                  <p:childTnLst>
                                    <p:cmd type="call" cmd="playFrom(0.0)">
                                      <p:cBhvr>
                                        <p:cTn id="82" dur="249753" fill="hold"/>
                                        <p:tgtEl>
                                          <p:spTgt spid="8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914040" y="618840"/>
            <a:ext cx="10363320" cy="981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89ad"/>
                </a:solidFill>
                <a:latin typeface="Tw Cen MT"/>
                <a:cs typeface="Times New Roman"/>
              </a:rPr>
              <a:t>جلسه اول</a:t>
            </a:r>
            <a:endParaRPr b="0" lang="en-US" sz="3600" spc="-1" strike="noStrike">
              <a:solidFill>
                <a:srgbClr val="000000"/>
              </a:solidFill>
              <a:latin typeface="Tw Cen MT"/>
            </a:endParaRPr>
          </a:p>
        </p:txBody>
      </p:sp>
      <p:sp>
        <p:nvSpPr>
          <p:cNvPr id="779" name=""/>
          <p:cNvSpPr txBox="1"/>
          <p:nvPr/>
        </p:nvSpPr>
        <p:spPr>
          <a:xfrm>
            <a:off x="914040" y="1600200"/>
            <a:ext cx="10363320" cy="4191120"/>
          </a:xfrm>
          <a:prstGeom prst="rect">
            <a:avLst/>
          </a:prstGeom>
          <a:noFill/>
          <a:ln w="0">
            <a:noFill/>
          </a:ln>
        </p:spPr>
        <p:txBody>
          <a:bodyPr anchor="t">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689ad"/>
                </a:solidFill>
                <a:latin typeface="Tw Cen MT"/>
                <a:cs typeface="B Nazanin"/>
              </a:rPr>
              <a:t>معرفی کتاب</a:t>
            </a:r>
            <a:r>
              <a:rPr b="0" lang="fa-IR" sz="2800" spc="-1" strike="noStrike">
                <a:solidFill>
                  <a:srgbClr val="2689ad"/>
                </a:solidFill>
                <a:latin typeface="Tw Cen MT"/>
                <a:ea typeface="B Nazanin"/>
              </a:rPr>
              <a:t> </a:t>
            </a:r>
            <a:r>
              <a:rPr b="0" lang="fa-IR" sz="2800" spc="-1" strike="noStrike">
                <a:solidFill>
                  <a:srgbClr val="2689ad"/>
                </a:solidFill>
                <a:latin typeface="Tw Cen MT"/>
                <a:ea typeface="B Nazanin"/>
              </a:rPr>
              <a:t>: </a:t>
            </a:r>
            <a:endParaRPr b="0" lang="en-US" sz="2800" spc="-1" strike="noStrike">
              <a:solidFill>
                <a:srgbClr val="000000"/>
              </a:solidFill>
              <a:latin typeface="Tw Cen MT"/>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780" name="Picture 3" descr=""/>
          <p:cNvPicPr/>
          <p:nvPr/>
        </p:nvPicPr>
        <p:blipFill>
          <a:blip r:embed="rId1"/>
          <a:stretch/>
        </p:blipFill>
        <p:spPr>
          <a:xfrm>
            <a:off x="912960" y="1500120"/>
            <a:ext cx="3367080" cy="4214880"/>
          </a:xfrm>
          <a:prstGeom prst="rect">
            <a:avLst/>
          </a:prstGeom>
          <a:ln w="0">
            <a:noFill/>
          </a:ln>
        </p:spPr>
      </p:pic>
      <p:pic>
        <p:nvPicPr>
          <p:cNvPr id="781" name="Picture 4" descr=""/>
          <p:cNvPicPr/>
          <p:nvPr/>
        </p:nvPicPr>
        <p:blipFill>
          <a:blip r:embed="rId2"/>
          <a:stretch/>
        </p:blipFill>
        <p:spPr>
          <a:xfrm>
            <a:off x="4773600" y="1600200"/>
            <a:ext cx="3246480" cy="4114800"/>
          </a:xfrm>
          <a:prstGeom prst="rect">
            <a:avLst/>
          </a:prstGeom>
          <a:ln w="0">
            <a:noFill/>
          </a:ln>
        </p:spPr>
      </p:pic>
      <p:pic>
        <p:nvPicPr>
          <p:cNvPr id="782" name="AUD-20200407-WA0001.mp3" descr=""/>
          <p:cNvPicPr/>
          <p:nvPr/>
        </p:nvPicPr>
        <p:blipFill>
          <a:blip r:embed="rId3"/>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779">
                                            <p:txEl>
                                              <p:pRg st="0" end="0"/>
                                            </p:txEl>
                                          </p:spTgt>
                                        </p:tgtEl>
                                        <p:attrNameLst>
                                          <p:attrName>style.visibility</p:attrName>
                                        </p:attrNameLst>
                                      </p:cBhvr>
                                      <p:to>
                                        <p:strVal val="visible"/>
                                      </p:to>
                                    </p:set>
                                    <p:animEffect filter="randombar(horizontal)" transition="in">
                                      <p:cBhvr additive="repl">
                                        <p:cTn id="13" dur="500"/>
                                        <p:tgtEl>
                                          <p:spTgt spid="779">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1" presetSubtype="1">
                                  <p:stCondLst>
                                    <p:cond delay="0"/>
                                  </p:stCondLst>
                                  <p:childTnLst>
                                    <p:set>
                                      <p:cBhvr>
                                        <p:cTn id="17" dur="1" fill="hold">
                                          <p:stCondLst>
                                            <p:cond delay="0"/>
                                          </p:stCondLst>
                                        </p:cTn>
                                        <p:tgtEl>
                                          <p:spTgt spid="780"/>
                                        </p:tgtEl>
                                        <p:attrNameLst>
                                          <p:attrName>style.visibility</p:attrName>
                                        </p:attrNameLst>
                                      </p:cBhvr>
                                      <p:to>
                                        <p:strVal val="visible"/>
                                      </p:to>
                                    </p:set>
                                    <p:animEffect filter="wheel(1)" transition="in">
                                      <p:cBhvr additive="repl">
                                        <p:cTn id="18" dur="2000"/>
                                        <p:tgtEl>
                                          <p:spTgt spid="780"/>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1" presetSubtype="1">
                                  <p:stCondLst>
                                    <p:cond delay="0"/>
                                  </p:stCondLst>
                                  <p:childTnLst>
                                    <p:set>
                                      <p:cBhvr>
                                        <p:cTn id="22" dur="1" fill="hold">
                                          <p:stCondLst>
                                            <p:cond delay="0"/>
                                          </p:stCondLst>
                                        </p:cTn>
                                        <p:tgtEl>
                                          <p:spTgt spid="781"/>
                                        </p:tgtEl>
                                        <p:attrNameLst>
                                          <p:attrName>style.visibility</p:attrName>
                                        </p:attrNameLst>
                                      </p:cBhvr>
                                      <p:to>
                                        <p:strVal val="visible"/>
                                      </p:to>
                                    </p:set>
                                    <p:animEffect filter="wheel(1)" transition="in">
                                      <p:cBhvr additive="repl">
                                        <p:cTn id="23" dur="20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782"/>
                    </p:tgtEl>
                  </p:cond>
                </p:stCondLst>
                <p:childTnLst>
                  <p:par>
                    <p:cTn id="25" nodeType="clickEffect" fill="hold">
                      <p:stCondLst>
                        <p:cond evt="onClick">
                          <p:tgtEl>
                            <p:spTgt spid="782"/>
                          </p:tgtEl>
                        </p:cond>
                      </p:stCondLst>
                      <p:childTnLst>
                        <p:par>
                          <p:cTn id="26" nodeType="withEffect" fill="hold">
                            <p:stCondLst>
                              <p:cond delay="0"/>
                            </p:stCondLst>
                            <p:childTnLst>
                              <p:par>
                                <p:cTn id="27" nodeType="clickEffect" fill="hold" presetClass="mediacall" presetID="1">
                                  <p:stCondLst>
                                    <p:cond delay="0"/>
                                  </p:stCondLst>
                                  <p:childTnLst>
                                    <p:cmd type="call" cmd="playFrom(0.0)">
                                      <p:cBhvr>
                                        <p:cTn id="28" dur="50524" fill="hold"/>
                                        <p:tgtEl>
                                          <p:spTgt spid="7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89ad"/>
                </a:solidFill>
                <a:latin typeface="Tw Cen MT"/>
                <a:cs typeface="B Nazanin"/>
              </a:rPr>
              <a:t>سرفصل مطالب جلسه اول</a:t>
            </a:r>
            <a:r>
              <a:rPr b="0" lang="fa-IR" sz="3600" spc="-1" strike="noStrike">
                <a:solidFill>
                  <a:srgbClr val="2689ad"/>
                </a:solidFill>
                <a:latin typeface="Tw Cen MT"/>
                <a:ea typeface="B Nazanin"/>
              </a:rPr>
              <a:t> </a:t>
            </a:r>
            <a:r>
              <a:rPr b="0" lang="fa-IR" sz="3600" spc="-1" strike="noStrike">
                <a:solidFill>
                  <a:srgbClr val="2689ad"/>
                </a:solidFill>
                <a:latin typeface="Tw Cen MT"/>
                <a:ea typeface="B Nazanin"/>
              </a:rPr>
              <a:t>:</a:t>
            </a:r>
            <a:endParaRPr b="0" lang="en-US" sz="3600" spc="-1" strike="noStrike">
              <a:solidFill>
                <a:srgbClr val="000000"/>
              </a:solidFill>
              <a:latin typeface="Tw Cen MT"/>
            </a:endParaRPr>
          </a:p>
        </p:txBody>
      </p:sp>
      <p:pic>
        <p:nvPicPr>
          <p:cNvPr id="784" name="Content Placeholder 2" descr=""/>
          <p:cNvPicPr/>
          <p:nvPr/>
        </p:nvPicPr>
        <p:blipFill>
          <a:blip r:embed="rId1"/>
          <a:stretch/>
        </p:blipFill>
        <p:spPr>
          <a:xfrm>
            <a:off x="914400" y="1719360"/>
            <a:ext cx="10449000" cy="4071960"/>
          </a:xfrm>
          <a:prstGeom prst="rect">
            <a:avLst/>
          </a:prstGeom>
          <a:ln w="0">
            <a:noFill/>
          </a:ln>
        </p:spPr>
      </p:pic>
      <p:pic>
        <p:nvPicPr>
          <p:cNvPr id="785" name="AUD-20200407-WA0002.mp3"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restart="whenNotActive" nodeType="interactiveSeq" fill="hold">
                <p:stCondLst>
                  <p:cond evt="onClick">
                    <p:tgtEl>
                      <p:spTgt spid="785"/>
                    </p:tgtEl>
                  </p:cond>
                </p:stCondLst>
                <p:childTnLst>
                  <p:par>
                    <p:cTn id="31" nodeType="clickEffect" fill="hold">
                      <p:stCondLst>
                        <p:cond evt="onClick">
                          <p:tgtEl>
                            <p:spTgt spid="785"/>
                          </p:tgtEl>
                        </p:cond>
                      </p:stCondLst>
                      <p:childTnLst>
                        <p:par>
                          <p:cTn id="32" nodeType="withEffect" fill="hold">
                            <p:stCondLst>
                              <p:cond delay="0"/>
                            </p:stCondLst>
                            <p:childTnLst>
                              <p:par>
                                <p:cTn id="33" nodeType="clickEffect" fill="hold" presetClass="mediacall" presetID="1">
                                  <p:stCondLst>
                                    <p:cond delay="0"/>
                                  </p:stCondLst>
                                  <p:childTnLst>
                                    <p:cmd type="call" cmd="playFrom(0.0)">
                                      <p:cBhvr>
                                        <p:cTn id="34" dur="46389" fill="hold"/>
                                        <p:tgtEl>
                                          <p:spTgt spid="7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914040" y="619200"/>
            <a:ext cx="10363320" cy="1100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689ad"/>
                </a:solidFill>
                <a:latin typeface="Tw Cen MT"/>
                <a:cs typeface="Times New Roman"/>
              </a:rPr>
              <a:t>حسابداری یک سیستم اطلاعاتی</a:t>
            </a:r>
            <a:endParaRPr b="0" lang="en-US" sz="2800" spc="-1" strike="noStrike">
              <a:solidFill>
                <a:srgbClr val="000000"/>
              </a:solidFill>
              <a:latin typeface="Tw Cen MT"/>
            </a:endParaRPr>
          </a:p>
        </p:txBody>
      </p:sp>
      <p:sp>
        <p:nvSpPr>
          <p:cNvPr id="787" name=""/>
          <p:cNvSpPr txBox="1"/>
          <p:nvPr/>
        </p:nvSpPr>
        <p:spPr>
          <a:xfrm>
            <a:off x="914040" y="1444680"/>
            <a:ext cx="10363320" cy="461808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در اغلب واحدهای جاری سیستم حسابداری اساسی ترین و قابل اعتماد ترین سیستم اطلاعاتی کمی مدیریت است که برای دستیابی به اهداف واحد تجاری فعالیت می کن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حسابداری را می توان به عنوان یک سیستم اطلاعاتی در نظر گرفت که ورودی دریافت آن را پردازش و در نهایت خروجی تولید می کن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endParaRPr b="0" lang="en-US" sz="2000" spc="-1" strike="noStrike">
              <a:solidFill>
                <a:srgbClr val="000000"/>
              </a:solidFill>
              <a:latin typeface="Tw Cen MT"/>
            </a:endParaRPr>
          </a:p>
        </p:txBody>
      </p:sp>
      <p:sp>
        <p:nvSpPr>
          <p:cNvPr id="788" name="Rectangle 3"/>
          <p:cNvSpPr/>
          <p:nvPr/>
        </p:nvSpPr>
        <p:spPr>
          <a:xfrm>
            <a:off x="4759200" y="2971800"/>
            <a:ext cx="1994040" cy="712800"/>
          </a:xfrm>
          <a:prstGeom prst="rect">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پردازش</a:t>
            </a:r>
            <a:endParaRPr b="0" lang="en-US" sz="1800" spc="-1" strike="noStrike">
              <a:solidFill>
                <a:srgbClr val="000000"/>
              </a:solidFill>
              <a:latin typeface="Tw Cen MT"/>
            </a:endParaRPr>
          </a:p>
        </p:txBody>
      </p:sp>
      <p:sp>
        <p:nvSpPr>
          <p:cNvPr id="789" name="Right Arrow 4"/>
          <p:cNvSpPr/>
          <p:nvPr/>
        </p:nvSpPr>
        <p:spPr>
          <a:xfrm>
            <a:off x="3284640" y="3041640"/>
            <a:ext cx="1417680" cy="712800"/>
          </a:xfrm>
          <a:prstGeom prst="rightArrow">
            <a:avLst>
              <a:gd name="adj1" fmla="val 50000"/>
              <a:gd name="adj2" fmla="val 49998"/>
            </a:avLst>
          </a:prstGeom>
          <a:solidFill>
            <a:srgbClr val="e34b7a"/>
          </a:solidFill>
          <a:ln w="15840">
            <a:solidFill>
              <a:srgbClr val="195b73"/>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ورودی</a:t>
            </a:r>
            <a:endParaRPr b="0" lang="en-US" sz="1800" spc="-1" strike="noStrike">
              <a:solidFill>
                <a:srgbClr val="000000"/>
              </a:solidFill>
              <a:latin typeface="Tw Cen MT"/>
            </a:endParaRPr>
          </a:p>
        </p:txBody>
      </p:sp>
      <p:sp>
        <p:nvSpPr>
          <p:cNvPr id="790" name="Right Arrow 5"/>
          <p:cNvSpPr/>
          <p:nvPr/>
        </p:nvSpPr>
        <p:spPr>
          <a:xfrm>
            <a:off x="6931080" y="2987640"/>
            <a:ext cx="1388880" cy="696960"/>
          </a:xfrm>
          <a:prstGeom prst="rightArrow">
            <a:avLst>
              <a:gd name="adj1" fmla="val 50000"/>
              <a:gd name="adj2" fmla="val 49994"/>
            </a:avLst>
          </a:prstGeom>
          <a:solidFill>
            <a:srgbClr val="e34b7a"/>
          </a:solidFill>
          <a:ln w="15840">
            <a:solidFill>
              <a:srgbClr val="0070c0"/>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خروجی</a:t>
            </a:r>
            <a:endParaRPr b="0" lang="en-US" sz="1800" spc="-1" strike="noStrike">
              <a:solidFill>
                <a:srgbClr val="000000"/>
              </a:solidFill>
              <a:latin typeface="Tw Cen MT"/>
            </a:endParaRPr>
          </a:p>
        </p:txBody>
      </p:sp>
      <p:sp>
        <p:nvSpPr>
          <p:cNvPr id="791" name="Rounded Rectangle 6"/>
          <p:cNvSpPr/>
          <p:nvPr/>
        </p:nvSpPr>
        <p:spPr>
          <a:xfrm>
            <a:off x="1219320" y="4581360"/>
            <a:ext cx="2065320" cy="102420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استفاده کنندگان از اطلاعات حسابداری</a:t>
            </a:r>
            <a:endParaRPr b="0" lang="en-US" sz="1800" spc="-1" strike="noStrike">
              <a:solidFill>
                <a:srgbClr val="000000"/>
              </a:solidFill>
              <a:latin typeface="Tw Cen MT"/>
            </a:endParaRPr>
          </a:p>
        </p:txBody>
      </p:sp>
      <p:cxnSp>
        <p:nvCxnSpPr>
          <p:cNvPr id="792" name="Straight Arrow Connector 9"/>
          <p:cNvCxnSpPr>
            <a:stCxn id="791" idx="3"/>
          </p:cNvCxnSpPr>
          <p:nvPr/>
        </p:nvCxnSpPr>
        <p:spPr>
          <a:xfrm flipV="1">
            <a:off x="3284280" y="4581000"/>
            <a:ext cx="996120" cy="511920"/>
          </a:xfrm>
          <a:prstGeom prst="straightConnector1">
            <a:avLst/>
          </a:prstGeom>
          <a:ln w="9360">
            <a:solidFill>
              <a:srgbClr val="b53a60"/>
            </a:solidFill>
            <a:miter/>
            <a:tailEnd len="med" type="triangle" w="med"/>
          </a:ln>
        </p:spPr>
      </p:cxnSp>
      <p:cxnSp>
        <p:nvCxnSpPr>
          <p:cNvPr id="793" name="Straight Arrow Connector 11"/>
          <p:cNvCxnSpPr>
            <a:stCxn id="791" idx="3"/>
          </p:cNvCxnSpPr>
          <p:nvPr/>
        </p:nvCxnSpPr>
        <p:spPr>
          <a:xfrm>
            <a:off x="3284280" y="5092200"/>
            <a:ext cx="996120" cy="546480"/>
          </a:xfrm>
          <a:prstGeom prst="straightConnector1">
            <a:avLst/>
          </a:prstGeom>
          <a:ln w="9360">
            <a:solidFill>
              <a:srgbClr val="b53a60"/>
            </a:solidFill>
            <a:miter/>
            <a:tailEnd len="med" type="triangle" w="med"/>
          </a:ln>
        </p:spPr>
      </p:cxnSp>
      <p:sp>
        <p:nvSpPr>
          <p:cNvPr id="794" name="Rounded Rectangle 13"/>
          <p:cNvSpPr/>
          <p:nvPr/>
        </p:nvSpPr>
        <p:spPr>
          <a:xfrm>
            <a:off x="4406760" y="4068720"/>
            <a:ext cx="1689120" cy="66852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درون سازمانی</a:t>
            </a:r>
            <a:endParaRPr b="0" lang="en-US" sz="1800" spc="-1" strike="noStrike">
              <a:solidFill>
                <a:srgbClr val="000000"/>
              </a:solidFill>
              <a:latin typeface="Tw Cen MT"/>
            </a:endParaRPr>
          </a:p>
        </p:txBody>
      </p:sp>
      <p:sp>
        <p:nvSpPr>
          <p:cNvPr id="795" name="Rounded Rectangle 14"/>
          <p:cNvSpPr/>
          <p:nvPr/>
        </p:nvSpPr>
        <p:spPr>
          <a:xfrm>
            <a:off x="4406760" y="5175360"/>
            <a:ext cx="1689120" cy="71280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برون سازمانی</a:t>
            </a:r>
            <a:endParaRPr b="0" lang="en-US" sz="1800" spc="-1" strike="noStrike">
              <a:solidFill>
                <a:srgbClr val="000000"/>
              </a:solidFill>
              <a:latin typeface="Tw Cen MT"/>
            </a:endParaRPr>
          </a:p>
        </p:txBody>
      </p:sp>
      <p:pic>
        <p:nvPicPr>
          <p:cNvPr id="796" name="AUD-20200409-WA0005.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restart="whenNotActive" nodeType="interactiveSeq" fill="hold">
                <p:stCondLst>
                  <p:cond evt="onClick">
                    <p:tgtEl>
                      <p:spTgt spid="796"/>
                    </p:tgtEl>
                  </p:cond>
                </p:stCondLst>
                <p:childTnLst>
                  <p:par>
                    <p:cTn id="37" nodeType="clickEffect" fill="hold">
                      <p:stCondLst>
                        <p:cond evt="onClick">
                          <p:tgtEl>
                            <p:spTgt spid="796"/>
                          </p:tgtEl>
                        </p:cond>
                      </p:stCondLst>
                      <p:childTnLst>
                        <p:par>
                          <p:cTn id="38" nodeType="withEffect" fill="hold">
                            <p:stCondLst>
                              <p:cond delay="0"/>
                            </p:stCondLst>
                            <p:childTnLst>
                              <p:par>
                                <p:cTn id="39" nodeType="clickEffect" fill="hold" presetClass="mediacall" presetID="1">
                                  <p:stCondLst>
                                    <p:cond delay="0"/>
                                  </p:stCondLst>
                                  <p:childTnLst>
                                    <p:cmd type="call" cmd="playFrom(0.0)">
                                      <p:cBhvr>
                                        <p:cTn id="40" dur="162144" fill="hold"/>
                                        <p:tgtEl>
                                          <p:spTgt spid="7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914040" y="420840"/>
            <a:ext cx="10363320" cy="822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حسابداری مالی و حسابداری مدیریت</a:t>
            </a:r>
            <a:endParaRPr b="0" lang="en-US" sz="3600" spc="-1" strike="noStrike">
              <a:solidFill>
                <a:srgbClr val="000000"/>
              </a:solidFill>
              <a:latin typeface="Tw Cen MT"/>
            </a:endParaRPr>
          </a:p>
        </p:txBody>
      </p:sp>
      <p:sp>
        <p:nvSpPr>
          <p:cNvPr id="798" name=""/>
          <p:cNvSpPr txBox="1"/>
          <p:nvPr/>
        </p:nvSpPr>
        <p:spPr>
          <a:xfrm>
            <a:off x="914040" y="1169640"/>
            <a:ext cx="10363320" cy="552276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آن بخش از حسابداری که اطلاعات مورد نیاز استفاده کنندگان برون سازمانی را تهیه می کند حسابداری مالی نامیده می شو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r>
              <a:rPr b="0" lang="fa-IR" sz="2000" spc="-1" strike="noStrike">
                <a:solidFill>
                  <a:srgbClr val="2689ad"/>
                </a:solidFill>
                <a:latin typeface="Tw Cen MT"/>
                <a:cs typeface="B Nazanin"/>
              </a:rPr>
              <a:t>و آن بخش از حسابداری که اطلاعات مورد نیاز استفاده کنندگان درون سازمانی را تهیه می کند حسابداری مدیریت نامیده می شو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d0d0d"/>
                </a:solidFill>
                <a:latin typeface="Tw Cen MT"/>
                <a:cs typeface="B Nazanin"/>
              </a:rPr>
              <a:t>برخی از تفاوتهای میان حسابداری مالی و مدیریت</a:t>
            </a:r>
            <a:r>
              <a:rPr b="1" lang="fa-IR" sz="2000" spc="-1" strike="noStrike">
                <a:solidFill>
                  <a:srgbClr val="0d0d0d"/>
                </a:solidFill>
                <a:latin typeface="Tw Cen MT"/>
                <a:ea typeface="B Nazanin"/>
              </a:rPr>
              <a:t> </a:t>
            </a:r>
            <a:r>
              <a:rPr b="1" lang="fa-IR" sz="2000" spc="-1" strike="noStrike">
                <a:solidFill>
                  <a:srgbClr val="0d0d0d"/>
                </a:solidFill>
                <a:latin typeface="Tw Cen MT"/>
                <a:ea typeface="B Nazanin"/>
              </a:rPr>
              <a:t>: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graphicFrame>
        <p:nvGraphicFramePr>
          <p:cNvPr id="799" name=""/>
          <p:cNvGraphicFramePr/>
          <p:nvPr/>
        </p:nvGraphicFramePr>
        <p:xfrm>
          <a:off x="1190520" y="3481560"/>
          <a:ext cx="9151920" cy="2778120"/>
        </p:xfrm>
        <a:graphic>
          <a:graphicData uri="http://schemas.openxmlformats.org/drawingml/2006/table">
            <a:tbl>
              <a:tblPr/>
              <a:tblGrid>
                <a:gridCol w="3051360"/>
                <a:gridCol w="3430440"/>
                <a:gridCol w="2670120"/>
              </a:tblGrid>
              <a:tr h="396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2689ad"/>
                          </a:solidFill>
                          <a:latin typeface="Tw Cen MT"/>
                          <a:cs typeface="B Nazanin"/>
                        </a:rPr>
                        <a:t>حسابداری مدیریت</a:t>
                      </a:r>
                      <a:endParaRPr b="0" lang="en-US" sz="2000" spc="-1" strike="noStrike">
                        <a:solidFill>
                          <a:srgbClr val="000000"/>
                        </a:solidFill>
                        <a:latin typeface="Tw Cen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2689ad"/>
                          </a:solidFill>
                          <a:latin typeface="Tw Cen MT"/>
                          <a:cs typeface="B Nazanin"/>
                        </a:rPr>
                        <a:t>حسابداری مال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درون سازمان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برون سازمان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استفاده کننده گان</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بستگی به نیاز مدیریت 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حدود به صورتهای مالی اساس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نوع گزارشا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دوره خاصی ن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عمولا سالانه</a:t>
                      </a:r>
                      <a:r>
                        <a:rPr b="0" lang="fa-IR" sz="2000" spc="-1" strike="noStrike">
                          <a:solidFill>
                            <a:srgbClr val="000000"/>
                          </a:solidFill>
                          <a:latin typeface="Tw Cen MT"/>
                          <a:ea typeface="Times New Roman"/>
                        </a:rPr>
                        <a:t> </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دوره گزارشگ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هر واحد اندازه گی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فقط واحد پول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واحد اندازه گی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وردی ن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الزامی اس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رعایت استاندارد های حسابدا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عمدتا آینده نگر و برآورد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عمدتا گذشته نما و واقع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محتوای گزارشا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bl>
          </a:graphicData>
        </a:graphic>
      </p:graphicFrame>
      <p:pic>
        <p:nvPicPr>
          <p:cNvPr id="800" name="AUD-20200409-WA0011.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restart="whenNotActive" nodeType="interactiveSeq" fill="hold">
                <p:stCondLst>
                  <p:cond evt="onClick">
                    <p:tgtEl>
                      <p:spTgt spid="800"/>
                    </p:tgtEl>
                  </p:cond>
                </p:stCondLst>
                <p:childTnLst>
                  <p:par>
                    <p:cTn id="43" nodeType="clickEffect" fill="hold">
                      <p:stCondLst>
                        <p:cond evt="onClick">
                          <p:tgtEl>
                            <p:spTgt spid="800"/>
                          </p:tgtEl>
                        </p:cond>
                      </p:stCondLst>
                      <p:childTnLst>
                        <p:par>
                          <p:cTn id="44" nodeType="withEffect" fill="hold">
                            <p:stCondLst>
                              <p:cond delay="0"/>
                            </p:stCondLst>
                            <p:childTnLst>
                              <p:par>
                                <p:cTn id="45" nodeType="clickEffect" fill="hold" presetClass="mediacall" presetID="1">
                                  <p:stCondLst>
                                    <p:cond delay="0"/>
                                  </p:stCondLst>
                                  <p:childTnLst>
                                    <p:cmd type="call" cmd="playFrom(0.0)">
                                      <p:cBhvr>
                                        <p:cTn id="46" dur="202500" fill="hold"/>
                                        <p:tgtEl>
                                          <p:spTgt spid="8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914040" y="619200"/>
            <a:ext cx="10363320" cy="1054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حسابداری بهای تمام شده</a:t>
            </a:r>
            <a:r>
              <a:rPr b="0" lang="fa-IR" sz="3600" spc="-1" strike="noStrike">
                <a:solidFill>
                  <a:srgbClr val="000000"/>
                </a:solidFill>
                <a:latin typeface="Tw Cen MT"/>
                <a:ea typeface="Times New Roman"/>
              </a:rPr>
              <a:t> </a:t>
            </a:r>
            <a:endParaRPr b="0" lang="en-US" sz="3600" spc="-1" strike="noStrike">
              <a:solidFill>
                <a:srgbClr val="000000"/>
              </a:solidFill>
              <a:latin typeface="Tw Cen MT"/>
            </a:endParaRPr>
          </a:p>
        </p:txBody>
      </p:sp>
      <p:sp>
        <p:nvSpPr>
          <p:cNvPr id="802" name=""/>
          <p:cNvSpPr txBox="1"/>
          <p:nvPr/>
        </p:nvSpPr>
        <p:spPr>
          <a:xfrm>
            <a:off x="914040" y="1672920"/>
            <a:ext cx="10363320" cy="4118040"/>
          </a:xfrm>
          <a:prstGeom prst="rect">
            <a:avLst/>
          </a:prstGeom>
          <a:noFill/>
          <a:ln w="0">
            <a:noFill/>
          </a:ln>
        </p:spPr>
        <p:txBody>
          <a:bodyPr anchor="t">
            <a:normAutofit/>
          </a:bodyPr>
          <a:p>
            <a:pPr algn="just"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حسابداری بهای تمام شده که حسابداری صنعتی نیز نامیده می شود بخشی از حسابداری است که وظیفه آن جمع آوری اطلاعات مربوط به عوامل بهای تمام شده و همچنین محاسبه بهای تمام شده محصولات و خدمات و گزارش آنها به حسابداری مالی و حسابداری مدیریت می باشد . بر خلاف حسابداری مالی و حسابداری مدیریت ، فعالیتهای حسابداری بهای تمام شده منجر به تهیه گزارشات اختصاصی نمی شود .</a:t>
            </a:r>
            <a:endParaRPr b="0" lang="en-US" sz="2000" spc="-1" strike="noStrike">
              <a:solidFill>
                <a:srgbClr val="000000"/>
              </a:solidFill>
              <a:latin typeface="Tw Cen MT"/>
            </a:endParaRPr>
          </a:p>
          <a:p>
            <a:pPr algn="just"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w Cen MT"/>
                <a:cs typeface="B Nazanin"/>
              </a:rPr>
              <a:t>نکته: </a:t>
            </a:r>
            <a:r>
              <a:rPr b="0" lang="fa-IR" sz="2000" spc="-1" strike="noStrike">
                <a:solidFill>
                  <a:srgbClr val="ff0000"/>
                </a:solidFill>
                <a:latin typeface="Tw Cen MT"/>
                <a:cs typeface="B Nazanin"/>
              </a:rPr>
              <a:t>حسابداری بهای تمام شده حلقه ارتباطی بین حسابداری مالی و حسابداری مدیریت می باشد و در واقع گزارشات تولید شده توسط آن مورد استفاده هر دو گروه قرار می گیرد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3" name="Oval 3"/>
          <p:cNvSpPr/>
          <p:nvPr/>
        </p:nvSpPr>
        <p:spPr>
          <a:xfrm>
            <a:off x="3786120" y="4370400"/>
            <a:ext cx="1554120" cy="1096920"/>
          </a:xfrm>
          <a:prstGeom prst="ellipse">
            <a:avLst/>
          </a:prstGeom>
          <a:solidFill>
            <a:srgbClr val="de85e1"/>
          </a:solidFill>
          <a:ln w="15840">
            <a:solidFill>
              <a:srgbClr val="a360a5"/>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بهای تمام شده</a:t>
            </a:r>
            <a:endParaRPr b="0" lang="en-US" sz="1800" spc="-1" strike="noStrike">
              <a:solidFill>
                <a:srgbClr val="000000"/>
              </a:solidFill>
              <a:latin typeface="Tw Cen MT"/>
            </a:endParaRPr>
          </a:p>
        </p:txBody>
      </p:sp>
      <p:sp>
        <p:nvSpPr>
          <p:cNvPr id="804" name="Oval 4"/>
          <p:cNvSpPr/>
          <p:nvPr/>
        </p:nvSpPr>
        <p:spPr>
          <a:xfrm>
            <a:off x="2395440" y="4370400"/>
            <a:ext cx="1609920" cy="1152360"/>
          </a:xfrm>
          <a:prstGeom prst="ellipse">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مالی</a:t>
            </a:r>
            <a:endParaRPr b="0" lang="en-US" sz="1800" spc="-1" strike="noStrike">
              <a:solidFill>
                <a:srgbClr val="000000"/>
              </a:solidFill>
              <a:latin typeface="Tw Cen MT"/>
            </a:endParaRPr>
          </a:p>
        </p:txBody>
      </p:sp>
      <p:sp>
        <p:nvSpPr>
          <p:cNvPr id="805" name="Oval 5"/>
          <p:cNvSpPr/>
          <p:nvPr/>
        </p:nvSpPr>
        <p:spPr>
          <a:xfrm>
            <a:off x="5138640" y="4370400"/>
            <a:ext cx="1590840" cy="1152360"/>
          </a:xfrm>
          <a:prstGeom prst="ellipse">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مدیریت</a:t>
            </a:r>
            <a:endParaRPr b="0" lang="en-US" sz="1800" spc="-1" strike="noStrike">
              <a:solidFill>
                <a:srgbClr val="000000"/>
              </a:solidFill>
              <a:latin typeface="Tw Cen MT"/>
            </a:endParaRPr>
          </a:p>
        </p:txBody>
      </p:sp>
      <p:pic>
        <p:nvPicPr>
          <p:cNvPr id="806" name="AUD-20200408-WA0005.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806"/>
                    </p:tgtEl>
                  </p:cond>
                </p:stCondLst>
                <p:childTnLst>
                  <p:par>
                    <p:cTn id="49" nodeType="clickEffect" fill="hold">
                      <p:stCondLst>
                        <p:cond evt="onClick">
                          <p:tgtEl>
                            <p:spTgt spid="806"/>
                          </p:tgtEl>
                        </p:cond>
                      </p:stCondLst>
                      <p:childTnLst>
                        <p:par>
                          <p:cTn id="50" nodeType="withEffect" fill="hold">
                            <p:stCondLst>
                              <p:cond delay="0"/>
                            </p:stCondLst>
                            <p:childTnLst>
                              <p:par>
                                <p:cTn id="51" nodeType="clickEffect" fill="hold" presetClass="mediacall" presetID="1">
                                  <p:stCondLst>
                                    <p:cond delay="0"/>
                                  </p:stCondLst>
                                  <p:childTnLst>
                                    <p:cmd type="call" cmd="playFrom(0.0)">
                                      <p:cBhvr>
                                        <p:cTn id="52" dur="51965" fill="hold"/>
                                        <p:tgtEl>
                                          <p:spTgt spid="8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914040" y="274680"/>
            <a:ext cx="10363320" cy="1023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فرآیند ایجاد ارزش</a:t>
            </a:r>
            <a:endParaRPr b="0" lang="en-US" sz="3600" spc="-1" strike="noStrike">
              <a:solidFill>
                <a:srgbClr val="000000"/>
              </a:solidFill>
              <a:latin typeface="Tw Cen MT"/>
            </a:endParaRPr>
          </a:p>
        </p:txBody>
      </p:sp>
      <p:sp>
        <p:nvSpPr>
          <p:cNvPr id="808" name=""/>
          <p:cNvSpPr txBox="1"/>
          <p:nvPr/>
        </p:nvSpPr>
        <p:spPr>
          <a:xfrm>
            <a:off x="239400" y="1298520"/>
            <a:ext cx="10955160" cy="449280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مجموعه فعالیتهایی که موجب ایجاد یا افزایش مطلوبیت و ارزش محصول یا خدمت می شوند . این فرآیند شامل </a:t>
            </a:r>
            <a:r>
              <a:rPr b="0" lang="fa-IR" sz="2000" spc="-1" strike="noStrike">
                <a:solidFill>
                  <a:srgbClr val="0070c0"/>
                </a:solidFill>
                <a:latin typeface="Tw Cen MT"/>
                <a:ea typeface="B Nazanin"/>
              </a:rPr>
              <a:t>6</a:t>
            </a:r>
            <a:r>
              <a:rPr b="0" lang="fa-IR" sz="2000" spc="-1" strike="noStrike">
                <a:solidFill>
                  <a:srgbClr val="0070c0"/>
                </a:solidFill>
                <a:latin typeface="Tw Cen MT"/>
                <a:ea typeface="B Nazanin"/>
              </a:rPr>
              <a:t> مرحله به شرح زیر می باشد</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نکته</a:t>
            </a:r>
            <a:r>
              <a:rPr b="0" lang="fa-IR" sz="2000" spc="-1" strike="noStrike">
                <a:solidFill>
                  <a:srgbClr val="0070c0"/>
                </a:solidFill>
                <a:latin typeface="Tw Cen MT"/>
                <a:ea typeface="B Nazanin"/>
              </a:rPr>
              <a:t> </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البته در عمل این مراحل ترتیب خاصی ندارد . مثلا ممکن است بازاریابی یک محصول قبل از تولید آن انجام شود</a:t>
            </a:r>
            <a:r>
              <a:rPr b="0" lang="fa-IR" sz="2000" spc="-1" strike="noStrike">
                <a:solidFill>
                  <a:srgbClr val="0070c0"/>
                </a:solidFill>
                <a:latin typeface="Tw Cen MT"/>
                <a:ea typeface="B Nazanin"/>
              </a:rPr>
              <a:t> </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809" name="Diagram 3" descr=""/>
          <p:cNvPicPr/>
          <p:nvPr/>
        </p:nvPicPr>
        <p:blipFill>
          <a:blip r:embed="rId1"/>
          <a:stretch/>
        </p:blipFill>
        <p:spPr>
          <a:xfrm>
            <a:off x="176040" y="3541680"/>
            <a:ext cx="7761600" cy="1090800"/>
          </a:xfrm>
          <a:prstGeom prst="rect">
            <a:avLst/>
          </a:prstGeom>
          <a:ln w="0">
            <a:noFill/>
          </a:ln>
        </p:spPr>
      </p:pic>
      <p:pic>
        <p:nvPicPr>
          <p:cNvPr id="810" name="AUD-20200409-WA0002.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restart="whenNotActive" nodeType="interactiveSeq" fill="hold">
                <p:stCondLst>
                  <p:cond evt="onClick">
                    <p:tgtEl>
                      <p:spTgt spid="810"/>
                    </p:tgtEl>
                  </p:cond>
                </p:stCondLst>
                <p:childTnLst>
                  <p:par>
                    <p:cTn id="55" nodeType="clickEffect" fill="hold">
                      <p:stCondLst>
                        <p:cond evt="onClick">
                          <p:tgtEl>
                            <p:spTgt spid="810"/>
                          </p:tgtEl>
                        </p:cond>
                      </p:stCondLst>
                      <p:childTnLst>
                        <p:par>
                          <p:cTn id="56" nodeType="withEffect" fill="hold">
                            <p:stCondLst>
                              <p:cond delay="0"/>
                            </p:stCondLst>
                            <p:childTnLst>
                              <p:par>
                                <p:cTn id="57" nodeType="clickEffect" fill="hold" presetClass="mediacall" presetID="1">
                                  <p:stCondLst>
                                    <p:cond delay="0"/>
                                  </p:stCondLst>
                                  <p:childTnLst>
                                    <p:cmd type="call" cmd="playFrom(0.0)">
                                      <p:cBhvr>
                                        <p:cTn id="58" dur="154040" fill="hold"/>
                                        <p:tgtEl>
                                          <p:spTgt spid="8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914040" y="619200"/>
            <a:ext cx="10363320" cy="898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آشنایی با برخی از مفاهیم و اصطلاحات در حسابداری بهای تمام شده</a:t>
            </a:r>
            <a:endParaRPr b="0" lang="en-US" sz="3600" spc="-1" strike="noStrike">
              <a:solidFill>
                <a:srgbClr val="000000"/>
              </a:solidFill>
              <a:latin typeface="Tw Cen MT"/>
            </a:endParaRPr>
          </a:p>
        </p:txBody>
      </p:sp>
      <p:sp>
        <p:nvSpPr>
          <p:cNvPr id="812" name=""/>
          <p:cNvSpPr txBox="1"/>
          <p:nvPr/>
        </p:nvSpPr>
        <p:spPr>
          <a:xfrm>
            <a:off x="914040" y="1517400"/>
            <a:ext cx="10363320" cy="4273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 : </a:t>
            </a:r>
            <a:r>
              <a:rPr b="1" lang="fa-IR" sz="1800" spc="-1" strike="noStrike">
                <a:solidFill>
                  <a:srgbClr val="000000"/>
                </a:solidFill>
                <a:latin typeface="Tw Cen MT"/>
                <a:cs typeface="B Nazanin"/>
              </a:rPr>
              <a:t>عبارت است از منابع صرف شده برای تحصیل یک منبع دیگر که این منبع جدید دارای منافع آتی باشد .این تعریف در واقع تعریف دارایی است به این معنی که بها در ترازنامه در بخش داراییها گزارش شده و همانند داراییها هدفدار و ارادی بوده خوشایند و قابل کنترل می باشد . مانند کالای ساخته شده تا قبل از فروش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هزینه : </a:t>
            </a:r>
            <a:r>
              <a:rPr b="1" lang="fa-IR" sz="1800" spc="-1" strike="noStrike">
                <a:solidFill>
                  <a:srgbClr val="000000"/>
                </a:solidFill>
                <a:latin typeface="Tw Cen MT"/>
                <a:cs typeface="B Nazanin"/>
              </a:rPr>
              <a:t>عبارت است از منابع صرف شده برای تحصیل یک منفعت ( درآمد )  که منافع کسب شده آن کاملا منقضی شده و فاقد هرگونه منافع آتی می باشد . هزینه ها از همان ابتدا به عنوان هزینه شناسایی و ثبت می شوند مانند هزینه حقوق کارکنان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زیان : </a:t>
            </a:r>
            <a:r>
              <a:rPr b="1" lang="fa-IR" sz="1800" spc="-1" strike="noStrike">
                <a:solidFill>
                  <a:srgbClr val="000000"/>
                </a:solidFill>
                <a:latin typeface="Tw Cen MT"/>
                <a:cs typeface="B Nazanin"/>
              </a:rPr>
              <a:t>از دست رفتن منافع بدون کسب هیچگونه منفعتی نه در گذشته و نه درآینده . مانند آتشسوزی در انبار مواد اولیه .</a:t>
            </a:r>
            <a:endParaRPr b="0" lang="en-US" sz="1800" spc="-1" strike="noStrike">
              <a:solidFill>
                <a:srgbClr val="000000"/>
              </a:solidFill>
              <a:latin typeface="Tw Cen MT"/>
            </a:endParaRPr>
          </a:p>
        </p:txBody>
      </p:sp>
      <p:pic>
        <p:nvPicPr>
          <p:cNvPr id="813" name="AUD-20200409-WA0010.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restart="whenNotActive" nodeType="interactiveSeq" fill="hold">
                <p:stCondLst>
                  <p:cond evt="onClick">
                    <p:tgtEl>
                      <p:spTgt spid="813"/>
                    </p:tgtEl>
                  </p:cond>
                </p:stCondLst>
                <p:childTnLst>
                  <p:par>
                    <p:cTn id="61" nodeType="clickEffect" fill="hold">
                      <p:stCondLst>
                        <p:cond evt="onClick">
                          <p:tgtEl>
                            <p:spTgt spid="813"/>
                          </p:tgtEl>
                        </p:cond>
                      </p:stCondLst>
                      <p:childTnLst>
                        <p:par>
                          <p:cTn id="62" nodeType="withEffect" fill="hold">
                            <p:stCondLst>
                              <p:cond delay="0"/>
                            </p:stCondLst>
                            <p:childTnLst>
                              <p:par>
                                <p:cTn id="63" nodeType="clickEffect" fill="hold" presetClass="mediacall" presetID="1">
                                  <p:stCondLst>
                                    <p:cond delay="0"/>
                                  </p:stCondLst>
                                  <p:childTnLst>
                                    <p:cmd type="call" cmd="playFrom(0.0)">
                                      <p:cBhvr>
                                        <p:cTn id="64" dur="190449" fill="hold"/>
                                        <p:tgtEl>
                                          <p:spTgt spid="8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914040" y="347760"/>
            <a:ext cx="10363320" cy="923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بهایابی و موضوع بها</a:t>
            </a:r>
            <a:endParaRPr b="0" lang="en-US" sz="3600" spc="-1" strike="noStrike">
              <a:solidFill>
                <a:srgbClr val="000000"/>
              </a:solidFill>
              <a:latin typeface="Tw Cen MT"/>
            </a:endParaRPr>
          </a:p>
        </p:txBody>
      </p:sp>
      <p:sp>
        <p:nvSpPr>
          <p:cNvPr id="815" name=""/>
          <p:cNvSpPr txBox="1"/>
          <p:nvPr/>
        </p:nvSpPr>
        <p:spPr>
          <a:xfrm>
            <a:off x="914040" y="1271160"/>
            <a:ext cx="10363320" cy="451980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70c0"/>
                </a:solidFill>
                <a:latin typeface="Tw Cen MT"/>
                <a:cs typeface="B Nazanin"/>
              </a:rPr>
              <a:t>فرآیند تعیین بهای تمام شده کالا و خدمات اصطلاحا</a:t>
            </a:r>
            <a:r>
              <a:rPr b="1" lang="fa-IR" sz="1800" spc="-1" strike="noStrike">
                <a:solidFill>
                  <a:srgbClr val="0070c0"/>
                </a:solidFill>
                <a:latin typeface="Tw Cen MT"/>
                <a:ea typeface="B Nazanin"/>
              </a:rPr>
              <a:t> بهایابی </a:t>
            </a:r>
            <a:r>
              <a:rPr b="0" lang="fa-IR" sz="1800" spc="-1" strike="noStrike">
                <a:solidFill>
                  <a:srgbClr val="0070c0"/>
                </a:solidFill>
                <a:latin typeface="Tw Cen MT"/>
                <a:cs typeface="B Nazanin"/>
              </a:rPr>
              <a:t>نامیده می شود .به عبارت دیگر بهایابی مجموعه اقدامات و فعالیتهایی است که در جهت تعیین بهای تمام شده کالاها و خدمات صورت می گیرد</a:t>
            </a:r>
            <a:r>
              <a:rPr b="0" lang="fa-IR" sz="1800" spc="-1" strike="noStrike">
                <a:solidFill>
                  <a:srgbClr val="0070c0"/>
                </a:solidFill>
                <a:latin typeface="Tw Cen MT"/>
                <a:ea typeface="B Nazanin"/>
              </a:rPr>
              <a:t> </a:t>
            </a:r>
            <a:r>
              <a:rPr b="0"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موضوع بهایابی </a:t>
            </a:r>
            <a:r>
              <a:rPr b="0" lang="fa-IR" sz="1800" spc="-1" strike="noStrike">
                <a:solidFill>
                  <a:srgbClr val="0070c0"/>
                </a:solidFill>
                <a:latin typeface="Tw Cen MT"/>
                <a:cs typeface="B Nazanin"/>
              </a:rPr>
              <a:t>هم در واقع همان چیزی است که به دنبال تعیین بهای تمام شده آن هستیم . موضوع بهایابی می تواند یک محصول ، یک خدمت ، یک طرح و یا یک سفارش باشد</a:t>
            </a:r>
            <a:r>
              <a:rPr b="0" lang="fa-IR" sz="1800" spc="-1" strike="noStrike">
                <a:solidFill>
                  <a:srgbClr val="0070c0"/>
                </a:solidFill>
                <a:latin typeface="Tw Cen MT"/>
                <a:ea typeface="B Nazanin"/>
              </a:rPr>
              <a:t> </a:t>
            </a:r>
            <a:r>
              <a:rPr b="0"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Tw Cen MT"/>
                <a:cs typeface="B Nazanin"/>
              </a:rPr>
              <a:t>نکته : حسابداری بهای تمام شده هم در موسسات تولیدی و هم در موسسات خدماتی کاربرد دارد</a:t>
            </a:r>
            <a:r>
              <a:rPr b="1" lang="fa-IR" sz="1800" spc="-1" strike="noStrike">
                <a:solidFill>
                  <a:srgbClr val="ff0000"/>
                </a:solidFill>
                <a:latin typeface="Tw Cen MT"/>
                <a:ea typeface="B Nazanin"/>
              </a:rPr>
              <a:t> </a:t>
            </a:r>
            <a:r>
              <a:rPr b="1" lang="fa-IR" sz="1800" spc="-1" strike="noStrike">
                <a:solidFill>
                  <a:srgbClr val="ff000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انواع سیستمهای بهایابی</a:t>
            </a:r>
            <a:r>
              <a:rPr b="1" lang="fa-IR" sz="1800" spc="-1" strike="noStrike">
                <a:solidFill>
                  <a:srgbClr val="0070c0"/>
                </a:solidFill>
                <a:latin typeface="Tw Cen MT"/>
                <a:ea typeface="B Nazanin"/>
              </a:rPr>
              <a:t> </a:t>
            </a:r>
            <a:r>
              <a:rPr b="1" lang="fa-IR" sz="1800" spc="-1" strike="noStrike">
                <a:solidFill>
                  <a:srgbClr val="0070c0"/>
                </a:solidFill>
                <a:latin typeface="Tw Cen MT"/>
                <a:ea typeface="B Nazanin"/>
              </a:rPr>
              <a:t>: </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در حسابداری بهای تمام شده برای تعیین بهای کالا و خدمات از سیستمهای بها یابی استفاده می شود  . این سیستم ها شامل</a:t>
            </a:r>
            <a:r>
              <a:rPr b="1" lang="fa-IR" sz="1800" spc="-1" strike="noStrike">
                <a:solidFill>
                  <a:srgbClr val="0070c0"/>
                </a:solidFill>
                <a:latin typeface="Tw Cen MT"/>
                <a:ea typeface="B Nazanin"/>
              </a:rPr>
              <a:t> </a:t>
            </a:r>
            <a:r>
              <a:rPr b="1"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الف : سیستم بهایابی سفارش کار</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 : سیستم بهایابی مرحله ای</a:t>
            </a:r>
            <a:endParaRPr b="0" lang="en-US" sz="1800" spc="-1" strike="noStrike">
              <a:solidFill>
                <a:srgbClr val="000000"/>
              </a:solidFill>
              <a:latin typeface="Tw Cen MT"/>
            </a:endParaRPr>
          </a:p>
        </p:txBody>
      </p:sp>
      <p:pic>
        <p:nvPicPr>
          <p:cNvPr id="816" name="AUD-20200409-WA0003.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restart="whenNotActive" nodeType="interactiveSeq" fill="hold">
                <p:stCondLst>
                  <p:cond evt="onClick">
                    <p:tgtEl>
                      <p:spTgt spid="816"/>
                    </p:tgtEl>
                  </p:cond>
                </p:stCondLst>
                <p:childTnLst>
                  <p:par>
                    <p:cTn id="67" nodeType="clickEffect" fill="hold">
                      <p:stCondLst>
                        <p:cond evt="onClick">
                          <p:tgtEl>
                            <p:spTgt spid="816"/>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243460" fill="hold"/>
                                        <p:tgtEl>
                                          <p:spTgt spid="8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9T17:49:09Z</dcterms:created>
  <dc:creator>Windows User</dc:creator>
  <dc:description/>
  <dc:language>en-US</dc:language>
  <cp:lastModifiedBy>Windows User</cp:lastModifiedBy>
  <dcterms:modified xsi:type="dcterms:W3CDTF">2020-04-09T17:54:57Z</dcterms:modified>
  <cp:revision>2</cp:revision>
  <dc:subject/>
  <dc:title>PowerPoint Presentation</dc:title>
</cp:coreProperties>
</file>