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10739-0953-4330-AA50-5FDFE93C7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F73DF-9981-4C49-831A-34B572041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8E5F66-0F16-4F7C-B74F-EFC499E4C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6941AE-251A-4E29-8245-E747EA4A9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A0D96A-ADDE-4983-B6A9-4CA467552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5A9557-ADE7-4432-9E13-A60643FBD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42EBEE-50B1-484B-85C8-06F7FD51A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953F1A-C138-4CB6-92A2-B3F20CD8E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423B28-CB41-4870-AB38-C9FA4C8FD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CD098C-27FB-474E-8C41-1FCD56CD6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3172F0-586C-4CE0-85AA-92EEB40FC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5A266E-BCE3-4C84-9601-D39A88157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F72F0-BB42-452B-91CB-B85A81407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320101-38E4-4AED-B906-3267FD1DD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039E53-D60C-43C7-B8C2-06B74DAAE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350575-B2DF-4FFA-8050-8378C1E3B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A5F3F4-542D-4D1A-9A88-B5C3BACC3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1763AF-8D09-481F-AC93-D7D159597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F1FB83-99D4-4CAC-A9E5-0B0243F7A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37C202-7C04-4C1A-8F83-547CA7D75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A705F1-8681-4798-9F5F-7AE84D72B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CCDD53-6A74-4D45-A7DC-CCA6DC4F5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EE9576-F0D2-4FCC-B83F-20700D5D3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D523D-B423-4495-9FB6-4EE3276D3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7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8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EC5B88-573C-4956-838B-A1DF54770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062507-8503-423F-A88F-554FE87EB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3BE612-FE09-4228-81BC-C40663AA7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A4E31C-CFB1-4C8F-8B4F-BADF9F552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541851-EEF6-44C2-AA2A-86318A279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5CD39B-D40C-4E0F-8B0E-C2B74211E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0F9E91-C4E1-492B-A0D4-887307E31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2A9234-7558-4C1F-AB8B-051568220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2949CC-AA85-49B8-AFA0-DAFDEEBAD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DD20D2-A1A3-4954-8C12-D60680B2F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0CBB6-A880-4082-9A79-19DE6C142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69262A-166C-4D55-B1BF-42B024A0F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316F4E-2498-43AD-90E0-8FF068AFA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0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1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C78F18-E05B-46F4-92D4-DF462DD85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124C95-C9F9-4643-A059-4B630E990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070390-89DE-45B3-9669-4BA9C9DA0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337A15-ED7C-414A-80DB-9F20B3385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60CC35-B1DC-41CE-947A-A7ADF0573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5E8877-C188-4415-B131-4D59BA137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B49404-E012-4234-B404-FD3F65735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2EEAA9-2984-470F-954C-309AAA274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DA0AD-BDC9-4506-B83D-4351AD153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AB6975-C3E8-4E40-8E02-3331CE0E6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6A2712-192B-4140-80A1-6B5DF4E4E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A2A6E0-90FE-4FFB-AFA3-FBE765E83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2B4F08-9C6B-41DA-AA71-99E7EA33F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3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4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529019-EAEC-46F8-B8B7-CFAC6BA35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1F334C2-EEB5-4746-8D73-1BB5CA639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FC9D703-E784-4589-BB0F-3612ED42A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BC09938-88AD-4303-A8D9-86332908C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74DB2B8-195D-4458-BD0C-964DA2267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2FB6964-4DBA-4513-B1E7-40DE09688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6FAB6-7E11-47CE-9F2A-710D95719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0092213-1EF0-4D70-AC9B-9600B2B8C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9DC76F2-2950-4D84-9427-638684FFA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F19CC2E-E2D3-4F92-B2FA-5D2ED1DD8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DA30133-F940-4C2B-B379-BA9B05237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7F48236-8375-4BEF-AF6B-477F9F9D5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2399797-AAA0-4C25-A652-738B00A6D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821A990-7126-4BA8-BFB1-B84C613BC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3A01172-C7A4-473D-A03D-031DEEF5D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B0672DC-A1F8-44B6-9EAF-16ADA4F3E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4C37B5B-6111-49A6-8F5D-510FD1B60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0C344-7EB2-48BA-8B27-B47632C6A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5A158E3-03BF-4492-9656-21A863163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9CDEEDB-A24E-4D22-8068-CC523D48F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5B425F4-AD09-49D9-BF20-47EDCE976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2301B87-0BE0-46CB-9978-BAE727937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5B0F1F7-60EE-42A7-9E44-BD8D4BABB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66D5A1B-4E17-4553-BFD5-285A2BA98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7BF6CBD-CCB4-44B7-800F-0479E3AD6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19191ED-9D0D-447B-8CE5-02CEF3C05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1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2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54BBC2B-D99F-4777-92EB-DE204B488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B3B4126-E08A-4AF2-9B9C-D88BB80B8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46DED-F56F-4A63-8320-442A58CE7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7A01EE9-382B-45F2-98B0-828220C3F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741A0D6-91EE-4DF9-9E9B-DA2FB2E50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215C61C-3515-4027-9F90-924DA7ACD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3A88BD2-71CB-478F-B04D-876D7873F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3CA9FB1-589F-4657-8217-FECE6A0FF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3C8838F-1545-41AD-A789-46EF6558A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9C85697-6B70-4C82-B7B0-BEE4264FD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D26E59D-399B-4320-9A57-DAED87A22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FE6900F-DD65-4EB0-A8DD-11FB21475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F0C4D59-C8CD-4010-BA3C-A6DF364F0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63FDF-B0C4-4599-923E-2DA40CCEE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2989BFE-48B2-4EB6-8433-FC7EDF4EF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6F988C3-FB95-4970-9B2E-E4694B4B6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730C788-E0D4-4DFD-A389-DADCA6E21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E26DAEC-D6D3-4BB0-80F4-FFD370E51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C4D7EEF-3305-429D-A71D-94ED262D5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B1F3FA5-99CB-408D-93AD-9D4FCE783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AB9AC08-CCCE-4BFC-9F17-924BE47D9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8C248BC-358C-4EE3-A698-0703A9234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2498E82-2B30-42CF-A69E-483F18321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FF0BF36-33DB-47B7-9F7F-E60AB5329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FE5CA-BF25-4FCE-8FFE-BC2AAB310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2C6F82A-F36F-4D5C-8FE6-E068CB8BE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DFA0D37-ECA1-4085-B60D-E057163E2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EA69460-56CF-4F31-99DF-8521C1A6D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D1B4EC1-A474-4318-9A60-3FC9EC6AF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1E69C44-FDD6-4558-B7D6-F8F27784C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71E27B2-4486-44D4-9625-4E9554818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B4D45F8-B3CE-457F-86D9-DDC5FAA8C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CCA6E17-80F7-4C6E-9BEC-3D3B20D71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8F65A6D-B3C0-4D9C-BC47-EC283D24C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1104A8C-ACA2-4332-B0FE-654010106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7C728-1C62-4C7D-8018-7EC814416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9C112-EF11-4CBF-A8AF-B2936ED3D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0C09636-699C-41F1-9B42-D6AFCE229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26E3058-32BE-4B51-85C2-879CC73A6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4DC1E66-8454-4E5F-AE50-2BA0D4979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4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C178FAE-34C4-41B7-9559-A37A47B0C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30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31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7B4FE06-6ECE-4FCD-A404-15EBDD728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76CDC12-702C-452E-8CA0-70C74DFD5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F1D4DC5-4894-487A-AD4C-0CEB784CA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943034E-515F-4386-A0A3-BD15DCE02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65DABDC-2F73-46E1-A8C9-44B1ECCD5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34F05D7-45BE-42EF-808C-B7E637653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185BF-9CB8-47D0-8022-4C624BF95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787441D-47C9-4AD3-A168-732443385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E7B5AE6-6F04-42FC-B835-33C102337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87067AC-F85F-4D5C-BD84-709077B39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1AF93F3-D85F-4B80-92FD-99D8244F8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8D746E1-24F6-44EC-89BC-945E2B487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7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5767D8B-58B3-4252-B67F-6692E1A7A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2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3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4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5F778FF-A2EA-450E-8338-17DB049A8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1DEEF-C58A-4F62-BC8E-1E7AF4896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1CBD0-EE0F-4638-844A-E3B82EFE1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F46DF-9DE0-4D70-9F5F-4A3596C70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0ED7F7-1696-453E-ACC9-3C27E90AE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EC06D1-E59A-4809-8AF8-D1A7C4C83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4967D1-3CA2-485C-B60F-865778BB9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068E1E-E276-46D6-9DF9-68C36B853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1F26BE-523A-470E-A124-55C03E5D6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6A35C-6387-4AF3-AF65-4EABA7631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43B114-D7C2-4151-9C92-ABDF83552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795679-5884-4182-82E1-23668464B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F049D3-4747-43A4-864D-E29FA7BA3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54C724-0181-492E-B15F-5A998B860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F90E40-6EC6-48F3-9226-6DCC4F186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8756A4-9A14-4416-8914-9780CDC4D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F6A4F9-098B-4AC7-B079-A629A45E4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E96017-93C4-4E84-A43F-3BC67E6AC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3D3318-3341-4092-832A-DABA3C505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6EA181-22BA-4332-9848-D29DCD5C7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33581-EB8F-4208-B19A-323449D0C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9F2D81-CF4E-4E7A-8321-4F0677696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EDBFE3-1EF8-4BAC-A0ED-58C45D1EE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3CC19B-AD21-430C-B4A1-087302BF6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00FFC6-6AD8-490D-A123-6A4BB8ED7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6BCF39-0085-4261-8E17-715E9570A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C8C508-708F-4864-BDCD-ADBF0359B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8C27B9-4CBC-4483-BB0D-C4DD00370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B73A98-8670-451D-9A14-20C3C14AD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F442CC-2201-4B47-A185-685FC7CAC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0ABEC6-4730-4C5F-9E31-61600DAC9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75817-FE37-4AF6-8CF4-C3BD9FF20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BA8A18-8387-41F6-A8A5-A097E7E48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B63BFC-44D8-4206-BF38-3E360B0DE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85D213-F006-4387-9FA6-3E70B9D35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6EC61E-5ED3-4B89-A483-4C013958B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A8DCA4-5BE9-46ED-B100-2AB25BD8B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6F49B0-847D-4533-AF8E-D2959210A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0C6D4E-F4D0-4056-88D8-51F543FA5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3C2F03-6BAF-45B2-BABE-295C1866E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23B9A8-6D4D-45AC-801A-1D1B0334F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415C59-CD76-4A58-ABA3-92F2FA9DC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D9D15-C4DC-4FC6-A420-A8866FF1F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71E98B-1963-42DD-B1E8-2FABB75AA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07B4BE-8BB1-48CD-A830-E8A642F84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D2F104-CECE-4203-8815-8C9F2C5A6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D02BF4-E5D7-4450-B042-40F1B1D6C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E33AB9-6945-418A-8DC0-012747F4F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F31977-411C-428B-97B8-888B2D05E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C0DE77-02E8-4F1D-BB4A-E3CCBBA38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223D7F-C173-4CB9-B658-5132BBDDB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3CB328-2364-4FEB-9FCA-F39C49FD6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AD61B6-1469-4563-BDB9-B4331F6FA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B8BF7-0024-45FC-BA99-CB6360CDB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99AE57-4115-48BC-80E6-62D717EF4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804A2E-DE90-42AB-8A45-0D768A674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6D9CE9-E4C7-4E48-8F6D-532271BF2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439A0E-BFDB-4906-A8F2-F203820AB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33F6A0-4615-4332-8B6A-1D9B8AD47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05DFEE-958D-430C-8B14-37AF1BA1A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A980E7-4FB3-48FB-A57F-0CAB18A39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C6B42C-6688-400C-90DF-1617E777C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F488A6-CDBF-4F49-8736-3989C177A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EEEED2-6FCA-4D3D-BD2F-2E7A704EE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C9FB7-0144-460F-9039-876AC786B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2A5F31-5955-4CD2-A414-7D6D89029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3BFFFB-8933-476A-8BB3-03E4001DE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692960-0454-45AD-AB03-D8C0F4BC2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A2A123-5FC1-4E6F-9683-D40DE434C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E47E22-673A-4EE1-96CB-2A6734BD0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535607-D6E2-4B18-B0B8-9CC8A5D94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F6C768-958D-43C2-A575-055EFBDF3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157B16-AF7A-44ED-BB00-F7BBDC3D8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800C96-055E-4EC6-AA0A-27CFEC4D9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89B0BF-914C-4960-9EB8-D004D8F43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59E03-A78A-43AF-AF1D-4869726FD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FA8074-E2E0-4348-8079-69FB2631A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17502E-CB04-42FA-83DF-DE29F58C2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2D246F-C97B-4851-8EEC-833AF6303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E66D0F-EBD9-4B7F-982A-23B2A0D01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B75E58-74C8-4A28-8091-0B35AE020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AA2A4D-6965-4AA3-89E5-45A43008E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EC2915-DF60-49C3-A422-2D7F4AB51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9462E9-BA81-4D5A-8D2A-9D3A1F851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9B468B-155E-4FA3-9FFB-7226FAFC7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369400-B0E0-4BC0-9425-20B707521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c8ef"/>
            </a:gs>
            <a:gs pos="100000">
              <a:srgbClr val="89ad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169834D-5491-441D-ACB8-088EA25828F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c8ef"/>
            </a:gs>
            <a:gs pos="100000">
              <a:srgbClr val="89ad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7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 type="dt" idx="28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 type="ftr" idx="29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 type="sldNum" idx="30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40CE7B-8C99-4BD1-8DE2-A71D851E341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c8ef"/>
            </a:gs>
            <a:gs pos="100000">
              <a:srgbClr val="89ad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7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 type="dt" idx="31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 type="ftr" idx="32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 type="sldNum" idx="33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C7CDC7C-223C-411C-8B90-DB81BEBB809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c8ef"/>
            </a:gs>
            <a:gs pos="100000">
              <a:srgbClr val="89ad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2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473" name="Picture 7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 type="dt" idx="34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 type="ftr" idx="35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 type="sldNum" idx="36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A96B6E6-0AA8-48B5-BD78-B7E8B451E86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c8ef"/>
            </a:gs>
            <a:gs pos="100000">
              <a:srgbClr val="89ad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5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516" name="Picture 7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517" name="TextBox 8"/>
          <p:cNvSpPr/>
          <p:nvPr/>
        </p:nvSpPr>
        <p:spPr>
          <a:xfrm>
            <a:off x="1001880" y="754200"/>
            <a:ext cx="60948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w Cen MT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8" name="TextBox 9"/>
          <p:cNvSpPr/>
          <p:nvPr/>
        </p:nvSpPr>
        <p:spPr>
          <a:xfrm>
            <a:off x="10557000" y="299412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w Cen MT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dt" idx="37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ftr" idx="38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sldNum" idx="39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57A741-DCE9-455C-B29A-403B36DEBF9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c8ef"/>
            </a:gs>
            <a:gs pos="100000">
              <a:srgbClr val="89ad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0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561" name="Picture 7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 type="dt" idx="40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 type="ftr" idx="41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 type="sldNum" idx="42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E593C0B-A92C-4ECA-A6D1-7D37E6881C7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c8ef"/>
            </a:gs>
            <a:gs pos="100000">
              <a:srgbClr val="89ad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3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604" name="Picture 7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dt" idx="43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ftr" idx="44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sldNum" idx="45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0966C8-E73A-45CA-A3D3-51719B413FB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c8ef"/>
            </a:gs>
            <a:gs pos="100000">
              <a:srgbClr val="89ad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6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647" name="Picture 7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46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47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48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322AB67-5926-4360-9B25-D5C6C5CBB2D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c8ef"/>
            </a:gs>
            <a:gs pos="100000">
              <a:srgbClr val="89ad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9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690" name="Picture 7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 type="dt" idx="49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 type="ftr" idx="50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 type="sldNum" idx="51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3E344F-9192-41B3-9528-0B3ABE1B8A0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c8ef"/>
            </a:gs>
            <a:gs pos="100000">
              <a:srgbClr val="89ad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2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733" name="Picture 7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 type="dt" idx="52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 type="ftr" idx="53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 type="sldNum" idx="54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B601E7-3730-47E2-9AD6-12AB83723B9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c8ef"/>
            </a:gs>
            <a:gs pos="100000">
              <a:srgbClr val="89ad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Droplets-HD-Title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26F36BD-5A73-41D3-B5AE-0B69385256F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c8ef"/>
            </a:gs>
            <a:gs pos="100000">
              <a:srgbClr val="89ad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7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D31468-5043-45A8-B26C-5550DE933BC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c8ef"/>
            </a:gs>
            <a:gs pos="100000">
              <a:srgbClr val="89ad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7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10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11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12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A0D29EF-857F-4EC4-AA41-56EA264A386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c8ef"/>
            </a:gs>
            <a:gs pos="100000">
              <a:srgbClr val="89ad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7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2CEAA30-93A6-4E80-A041-DE7797B64F7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c8ef"/>
            </a:gs>
            <a:gs pos="100000">
              <a:srgbClr val="89ad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7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dt" idx="16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ftr" idx="17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sldNum" idx="18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BB74155-4F3A-4DCB-862B-71C031E8288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c8ef"/>
            </a:gs>
            <a:gs pos="100000">
              <a:srgbClr val="89ad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7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dt" idx="19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ftr" idx="20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 type="sldNum" idx="21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4742D3-6784-4275-B50B-97407C1C5CE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c8ef"/>
            </a:gs>
            <a:gs pos="100000">
              <a:srgbClr val="89ad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7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dt" idx="22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ftr" idx="23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sldNum" idx="24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0BC9DE7-B90A-4150-AA46-4A557D3C5EA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c8ef"/>
            </a:gs>
            <a:gs pos="100000">
              <a:srgbClr val="89ad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7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dt" idx="25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ftr" idx="26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sldNum" idx="27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F43E484-8E70-4096-ADBE-E3C34AE1154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914040" y="-192240"/>
            <a:ext cx="10363320" cy="104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000000"/>
                </a:solidFill>
                <a:latin typeface="Tw Cen MT"/>
                <a:cs typeface="Times New Roman"/>
              </a:rPr>
              <a:t>جلسه دوم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6" name=""/>
          <p:cNvSpPr txBox="1"/>
          <p:nvPr/>
        </p:nvSpPr>
        <p:spPr>
          <a:xfrm>
            <a:off x="914040" y="767880"/>
            <a:ext cx="10363320" cy="502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70c0"/>
                </a:solidFill>
                <a:latin typeface="Tw Cen MT"/>
                <a:cs typeface="B Nazanin"/>
              </a:rPr>
              <a:t>سر فصل مطالب</a:t>
            </a:r>
            <a:r>
              <a:rPr b="1" lang="fa-IR" sz="2800" spc="-1" strike="noStrike">
                <a:solidFill>
                  <a:srgbClr val="0070c0"/>
                </a:solidFill>
                <a:latin typeface="Tw Cen MT"/>
                <a:ea typeface="B Nazanin"/>
              </a:rPr>
              <a:t> </a:t>
            </a:r>
            <a:r>
              <a:rPr b="1" lang="fa-IR" sz="2800" spc="-1" strike="noStrike">
                <a:solidFill>
                  <a:srgbClr val="0070c0"/>
                </a:solidFill>
                <a:latin typeface="Tw Cen MT"/>
                <a:ea typeface="B Nazani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algn="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0000"/>
                </a:solidFill>
                <a:latin typeface="Tw Cen MT"/>
                <a:ea typeface="Arial"/>
              </a:rPr>
              <a:t> </a:t>
            </a:r>
            <a:r>
              <a:rPr b="0" lang="fa-IR" sz="2800" spc="-1" strike="noStrike">
                <a:solidFill>
                  <a:srgbClr val="0070c0"/>
                </a:solidFill>
                <a:latin typeface="Tw Cen MT"/>
                <a:cs typeface="B Nazanin"/>
              </a:rPr>
              <a:t>انواع روشهای بهایابی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algn="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70c0"/>
                </a:solidFill>
                <a:latin typeface="Tw Cen MT"/>
                <a:cs typeface="B Nazanin"/>
              </a:rPr>
              <a:t>مراحل بهایابی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algn="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70c0"/>
                </a:solidFill>
                <a:latin typeface="Tw Cen MT"/>
                <a:cs typeface="B Nazanin"/>
              </a:rPr>
              <a:t>عامل بها و مدیریت بها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algn="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70c0"/>
                </a:solidFill>
                <a:latin typeface="Tw Cen MT"/>
                <a:cs typeface="B Nazanin"/>
              </a:rPr>
              <a:t>بهای تولید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algn="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70c0"/>
                </a:solidFill>
                <a:latin typeface="Tw Cen MT"/>
                <a:cs typeface="B Nazanin"/>
              </a:rPr>
              <a:t>بهای اولیه و بهای تبدیل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777" name="AUD-20200409-WA0012.m4a" descr=""/>
          <p:cNvPicPr/>
          <p:nvPr/>
        </p:nvPicPr>
        <p:blipFill>
          <a:blip r:embed="rId1"/>
          <a:stretch/>
        </p:blipFill>
        <p:spPr>
          <a:xfrm>
            <a:off x="5851440" y="3184560"/>
            <a:ext cx="48744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777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777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7762" fill="hold"/>
                                        <p:tgtEl>
                                          <p:spTgt spid="7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914040" y="209520"/>
            <a:ext cx="10363320" cy="102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000000"/>
                </a:solidFill>
                <a:latin typeface="Tw Cen MT"/>
                <a:cs typeface="Times New Roman"/>
              </a:rPr>
              <a:t>جلسه سوم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6" name=""/>
          <p:cNvSpPr txBox="1"/>
          <p:nvPr/>
        </p:nvSpPr>
        <p:spPr>
          <a:xfrm>
            <a:off x="914040" y="1152360"/>
            <a:ext cx="10363320" cy="463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 rtl="1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70c0"/>
                </a:solidFill>
                <a:latin typeface="Tw Cen MT"/>
                <a:cs typeface="B Nazanin"/>
              </a:rPr>
              <a:t>سر فصل مطالب: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algn="r" rtl="1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70c0"/>
                </a:solidFill>
                <a:latin typeface="Tw Cen MT"/>
                <a:cs typeface="B Nazanin"/>
              </a:rPr>
              <a:t>طبقه بندی بها از دیدگاههای مختلف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algn="r" rtl="1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70c0"/>
                </a:solidFill>
                <a:latin typeface="Tw Cen MT"/>
                <a:cs typeface="B Nazanin"/>
              </a:rPr>
              <a:t>توضیح طبقه بندی بر مبنای قابلیت رهگیری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algn="r" rtl="1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70c0"/>
                </a:solidFill>
                <a:latin typeface="Tw Cen MT"/>
                <a:cs typeface="B Nazanin"/>
              </a:rPr>
              <a:t>عوامل موثر بر طبقه بندی بها به مستقیم و غیر مستقیم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algn="r" rtl="1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70c0"/>
                </a:solidFill>
                <a:latin typeface="Tw Cen MT"/>
                <a:cs typeface="B Nazanin"/>
              </a:rPr>
              <a:t>توضیح طبقه بندی بها بر مبنای رفتار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837" name="21.3gp" descr=""/>
          <p:cNvPicPr/>
          <p:nvPr/>
        </p:nvPicPr>
        <p:blipFill>
          <a:blip r:embed="rId1"/>
          <a:stretch/>
        </p:blipFill>
        <p:spPr>
          <a:xfrm>
            <a:off x="5791320" y="3124080"/>
            <a:ext cx="60948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restart="whenNotActive" nodeType="interactiveSeq" fill="hold">
                <p:stCondLst>
                  <p:cond evt="onClick">
                    <p:tgtEl>
                      <p:spTgt spid="837"/>
                    </p:tgtEl>
                  </p:cond>
                </p:stCondLst>
                <p:childTnLst>
                  <p:par>
                    <p:cTn id="57" nodeType="clickEffect" fill="hold">
                      <p:stCondLst>
                        <p:cond evt="onClick">
                          <p:tgtEl>
                            <p:spTgt spid="837"/>
                          </p:tgtEl>
                        </p:cond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19829" fill="hold"/>
                                        <p:tgtEl>
                                          <p:spTgt spid="8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914040" y="618840"/>
            <a:ext cx="10363320" cy="77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000000"/>
                </a:solidFill>
                <a:latin typeface="Tw Cen MT"/>
                <a:cs typeface="Times New Roman"/>
              </a:rPr>
              <a:t>انواع روشهای بهایابی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9" name=""/>
          <p:cNvSpPr txBox="1"/>
          <p:nvPr/>
        </p:nvSpPr>
        <p:spPr>
          <a:xfrm>
            <a:off x="914040" y="1252440"/>
            <a:ext cx="10363320" cy="453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2060"/>
                </a:solidFill>
                <a:latin typeface="Tw Cen MT"/>
                <a:cs typeface="B Nazanin"/>
              </a:rPr>
              <a:t>هر دو سیستم بهایابی سفارش کارو مرحله ای به سه روش زیر قابل اجرا می باشند</a:t>
            </a:r>
            <a:r>
              <a:rPr b="1" lang="fa-IR" sz="1800" spc="-1" strike="noStrike">
                <a:solidFill>
                  <a:srgbClr val="002060"/>
                </a:solidFill>
                <a:latin typeface="Tw Cen MT"/>
                <a:ea typeface="B Nazanin"/>
              </a:rPr>
              <a:t> </a:t>
            </a:r>
            <a:r>
              <a:rPr b="1" lang="fa-IR" sz="1800" spc="-1" strike="noStrike">
                <a:solidFill>
                  <a:srgbClr val="002060"/>
                </a:solidFill>
                <a:latin typeface="Tw Cen MT"/>
                <a:ea typeface="B Nazani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algn="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780" name="Diagram 3" descr=""/>
          <p:cNvPicPr/>
          <p:nvPr/>
        </p:nvPicPr>
        <p:blipFill>
          <a:blip r:embed="rId1"/>
          <a:stretch/>
        </p:blipFill>
        <p:spPr>
          <a:xfrm>
            <a:off x="639720" y="2554200"/>
            <a:ext cx="1749600" cy="3024360"/>
          </a:xfrm>
          <a:prstGeom prst="rect">
            <a:avLst/>
          </a:prstGeom>
          <a:ln w="0">
            <a:noFill/>
          </a:ln>
        </p:spPr>
      </p:pic>
      <p:sp>
        <p:nvSpPr>
          <p:cNvPr id="781" name="Right Arrow 4"/>
          <p:cNvSpPr/>
          <p:nvPr/>
        </p:nvSpPr>
        <p:spPr>
          <a:xfrm>
            <a:off x="2295360" y="3236760"/>
            <a:ext cx="712800" cy="182880"/>
          </a:xfrm>
          <a:prstGeom prst="rightArrow">
            <a:avLst>
              <a:gd name="adj1" fmla="val 50000"/>
              <a:gd name="adj2" fmla="val 49911"/>
            </a:avLst>
          </a:prstGeom>
          <a:solidFill>
            <a:srgbClr val="e34b7a"/>
          </a:solidFill>
          <a:ln w="15840">
            <a:solidFill>
              <a:srgbClr val="a735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2" name="Right Arrow 6"/>
          <p:cNvSpPr/>
          <p:nvPr/>
        </p:nvSpPr>
        <p:spPr>
          <a:xfrm>
            <a:off x="2303640" y="3973680"/>
            <a:ext cx="712440" cy="182520"/>
          </a:xfrm>
          <a:prstGeom prst="rightArrow">
            <a:avLst>
              <a:gd name="adj1" fmla="val 50000"/>
              <a:gd name="adj2" fmla="val 49985"/>
            </a:avLst>
          </a:prstGeom>
          <a:solidFill>
            <a:srgbClr val="e34b7a"/>
          </a:solidFill>
          <a:ln w="15840">
            <a:solidFill>
              <a:srgbClr val="a735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3" name="Right Arrow 7"/>
          <p:cNvSpPr/>
          <p:nvPr/>
        </p:nvSpPr>
        <p:spPr>
          <a:xfrm>
            <a:off x="2295360" y="4734000"/>
            <a:ext cx="712800" cy="182520"/>
          </a:xfrm>
          <a:prstGeom prst="rightArrow">
            <a:avLst>
              <a:gd name="adj1" fmla="val 50000"/>
              <a:gd name="adj2" fmla="val 50010"/>
            </a:avLst>
          </a:prstGeom>
          <a:solidFill>
            <a:srgbClr val="e34b7a"/>
          </a:solidFill>
          <a:ln w="15840">
            <a:solidFill>
              <a:srgbClr val="a735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4" name="Oval 8"/>
          <p:cNvSpPr/>
          <p:nvPr/>
        </p:nvSpPr>
        <p:spPr>
          <a:xfrm>
            <a:off x="3311640" y="2276640"/>
            <a:ext cx="3857400" cy="1143000"/>
          </a:xfrm>
          <a:prstGeom prst="ellipse">
            <a:avLst/>
          </a:prstGeom>
          <a:solidFill>
            <a:srgbClr val="de85e1"/>
          </a:solidFill>
          <a:ln w="15840">
            <a:solidFill>
              <a:srgbClr val="a360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Tw Cen MT"/>
                <a:cs typeface="B Nazanin"/>
              </a:rPr>
              <a:t>اطلاعات مربوط به مواد و دستمزد و سربار همگی واقعی باشند</a:t>
            </a:r>
            <a:r>
              <a:rPr b="0" lang="fa-IR" sz="1800" spc="-1" strike="noStrike">
                <a:solidFill>
                  <a:srgbClr val="000000"/>
                </a:solidFill>
                <a:latin typeface="Tw Cen MT"/>
                <a:ea typeface="B Nazanin"/>
              </a:rPr>
              <a:t> </a:t>
            </a:r>
            <a:r>
              <a:rPr b="0" lang="fa-IR" sz="1800" spc="-1" strike="noStrike">
                <a:solidFill>
                  <a:srgbClr val="000000"/>
                </a:solidFill>
                <a:latin typeface="Tw Cen MT"/>
                <a:ea typeface="B Nazani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5" name="Oval 9"/>
          <p:cNvSpPr/>
          <p:nvPr/>
        </p:nvSpPr>
        <p:spPr>
          <a:xfrm>
            <a:off x="3216240" y="3478320"/>
            <a:ext cx="4191120" cy="1106280"/>
          </a:xfrm>
          <a:prstGeom prst="ellipse">
            <a:avLst/>
          </a:prstGeom>
          <a:solidFill>
            <a:srgbClr val="de85e1"/>
          </a:solidFill>
          <a:ln w="15840">
            <a:solidFill>
              <a:srgbClr val="a360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Tw Cen MT"/>
                <a:cs typeface="B Nazanin"/>
              </a:rPr>
              <a:t>اطلاعات مربوط به مواد و دستمزد واقعی بوده اما اطلاعات سربار برآوردی می باشند</a:t>
            </a:r>
            <a:r>
              <a:rPr b="0" lang="fa-IR" sz="1800" spc="-1" strike="noStrike">
                <a:solidFill>
                  <a:srgbClr val="000000"/>
                </a:solidFill>
                <a:latin typeface="Tw Cen MT"/>
                <a:ea typeface="B Nazanin"/>
              </a:rPr>
              <a:t> </a:t>
            </a:r>
            <a:r>
              <a:rPr b="0" lang="fa-IR" sz="1800" spc="-1" strike="noStrike">
                <a:solidFill>
                  <a:srgbClr val="000000"/>
                </a:solidFill>
                <a:latin typeface="Tw Cen MT"/>
                <a:ea typeface="B Nazani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6" name="Oval 10"/>
          <p:cNvSpPr/>
          <p:nvPr/>
        </p:nvSpPr>
        <p:spPr>
          <a:xfrm>
            <a:off x="3016080" y="4584600"/>
            <a:ext cx="4761000" cy="1054080"/>
          </a:xfrm>
          <a:prstGeom prst="ellipse">
            <a:avLst/>
          </a:prstGeom>
          <a:solidFill>
            <a:srgbClr val="de85e1"/>
          </a:solidFill>
          <a:ln w="15840">
            <a:solidFill>
              <a:srgbClr val="a360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7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Tw Cen MT"/>
                <a:cs typeface="B Nazanin"/>
              </a:rPr>
              <a:t>قبل از شروع دوره مالی اطلاعات مربوط به مواد و دستمزد و سربار پیش بینی شده و در طی دوره ملاک عمل قرار می گیرند</a:t>
            </a:r>
            <a:r>
              <a:rPr b="0" lang="fa-IR" sz="1800" spc="-1" strike="noStrike">
                <a:solidFill>
                  <a:srgbClr val="000000"/>
                </a:solidFill>
                <a:latin typeface="Tw Cen MT"/>
                <a:ea typeface="B Nazanin"/>
              </a:rPr>
              <a:t> </a:t>
            </a:r>
            <a:r>
              <a:rPr b="0" lang="fa-IR" sz="1800" spc="-1" strike="noStrike">
                <a:solidFill>
                  <a:srgbClr val="ffffff"/>
                </a:solidFill>
                <a:latin typeface="Tw Cen MT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787" name="AUD-20200409-WA0009.m4a" descr=""/>
          <p:cNvPicPr/>
          <p:nvPr/>
        </p:nvPicPr>
        <p:blipFill>
          <a:blip r:embed="rId2"/>
          <a:stretch/>
        </p:blipFill>
        <p:spPr>
          <a:xfrm>
            <a:off x="5851440" y="3184560"/>
            <a:ext cx="48744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787"/>
                    </p:tgtEl>
                  </p:cond>
                </p:stCondLst>
                <p:childTnLst>
                  <p:par>
                    <p:cTn id="9" nodeType="clickEffect" fill="hold">
                      <p:stCondLst>
                        <p:cond evt="onClick">
                          <p:tgtEl>
                            <p:spTgt spid="787"/>
                          </p:tgtEl>
                        </p:cond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252957" fill="hold"/>
                                        <p:tgtEl>
                                          <p:spTgt spid="7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914040" y="247680"/>
            <a:ext cx="10363320" cy="81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000000"/>
                </a:solidFill>
                <a:latin typeface="Tw Cen MT"/>
                <a:cs typeface="Times New Roman"/>
              </a:rPr>
              <a:t>مراحل بهایابی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9" name=""/>
          <p:cNvSpPr txBox="1"/>
          <p:nvPr/>
        </p:nvSpPr>
        <p:spPr>
          <a:xfrm>
            <a:off x="914040" y="1123560"/>
            <a:ext cx="10363320" cy="466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 rtl="1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2060"/>
                </a:solidFill>
                <a:latin typeface="Tw Cen MT"/>
                <a:cs typeface="B Nazanin"/>
              </a:rPr>
              <a:t>در هر سیستم بهایابی برای محاسبه بها بایستی </a:t>
            </a:r>
            <a:r>
              <a:rPr b="1" lang="fa-IR" sz="1800" spc="-1" strike="noStrike">
                <a:solidFill>
                  <a:srgbClr val="002060"/>
                </a:solidFill>
                <a:latin typeface="Tw Cen MT"/>
                <a:ea typeface="B Nazanin"/>
              </a:rPr>
              <a:t>2</a:t>
            </a:r>
            <a:r>
              <a:rPr b="1" lang="fa-IR" sz="1800" spc="-1" strike="noStrike">
                <a:solidFill>
                  <a:srgbClr val="002060"/>
                </a:solidFill>
                <a:latin typeface="Tw Cen MT"/>
                <a:ea typeface="B Nazanin"/>
              </a:rPr>
              <a:t> مرحله اساسی را پشت سر گذاشت :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algn="r" rtl="1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2060"/>
                </a:solidFill>
                <a:latin typeface="Tw Cen MT"/>
                <a:cs typeface="B Nazanin"/>
              </a:rPr>
              <a:t>الف : انباشت بها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algn="r" rtl="1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2060"/>
                </a:solidFill>
                <a:latin typeface="Tw Cen MT"/>
                <a:cs typeface="B Nazanin"/>
              </a:rPr>
              <a:t>ب : تخصیص بها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algn="r" rtl="1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2060"/>
                </a:solidFill>
                <a:latin typeface="Tw Cen MT"/>
                <a:cs typeface="B Nazanin"/>
              </a:rPr>
              <a:t>در مرحله انباشت بها اطلاعات مربوط به بها از نظر ماهیت آنها در جایی به نام انباره های بها یا مخازن بها جمع می شوند به عنوان مثال انباره حقوق و دستمزد یا انباره مواد .....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algn="r" rtl="1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2060"/>
                </a:solidFill>
                <a:latin typeface="Tw Cen MT"/>
                <a:cs typeface="B Nazanin"/>
              </a:rPr>
              <a:t>در مرحله خصیص بایستی اطلاعات جمع آوری شده در مرحله قبل بر اساس یک مبنای مناسب به موضوع بهایابی ، اختصاص داده شود 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algn="r" rtl="1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2060"/>
                </a:solidFill>
                <a:latin typeface="Tw Cen MT"/>
                <a:cs typeface="B Nazanin"/>
              </a:rPr>
              <a:t>انواع تخصیص :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algn="r" rtl="1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2060"/>
                </a:solidFill>
                <a:latin typeface="Tw Cen MT"/>
                <a:ea typeface="B Nazanin"/>
              </a:rPr>
              <a:t>1</a:t>
            </a:r>
            <a:r>
              <a:rPr b="1" lang="fa-IR" sz="1800" spc="-1" strike="noStrike">
                <a:solidFill>
                  <a:srgbClr val="002060"/>
                </a:solidFill>
                <a:latin typeface="Tw Cen MT"/>
                <a:ea typeface="B Nazanin"/>
              </a:rPr>
              <a:t>- به روش رهگیری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algn="r" rtl="1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2060"/>
                </a:solidFill>
                <a:latin typeface="Tw Cen MT"/>
                <a:ea typeface="B Nazanin"/>
              </a:rPr>
              <a:t>2</a:t>
            </a:r>
            <a:r>
              <a:rPr b="1" lang="fa-IR" sz="1800" spc="-1" strike="noStrike">
                <a:solidFill>
                  <a:srgbClr val="002060"/>
                </a:solidFill>
                <a:latin typeface="Tw Cen MT"/>
                <a:ea typeface="B Nazanin"/>
              </a:rPr>
              <a:t>- به روش تسهیم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790" name="AUD-20200409-WA0006.m4a" descr=""/>
          <p:cNvPicPr/>
          <p:nvPr/>
        </p:nvPicPr>
        <p:blipFill>
          <a:blip r:embed="rId1"/>
          <a:stretch/>
        </p:blipFill>
        <p:spPr>
          <a:xfrm>
            <a:off x="5851440" y="3184560"/>
            <a:ext cx="48744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790"/>
                    </p:tgtEl>
                  </p:cond>
                </p:stCondLst>
                <p:childTnLst>
                  <p:par>
                    <p:cTn id="15" nodeType="clickEffect" fill="hold">
                      <p:stCondLst>
                        <p:cond evt="onClick">
                          <p:tgtEl>
                            <p:spTgt spid="790"/>
                          </p:tgtEl>
                        </p:cond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31293" fill="hold"/>
                                        <p:tgtEl>
                                          <p:spTgt spid="7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914040" y="91800"/>
            <a:ext cx="10363320" cy="98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000000"/>
                </a:solidFill>
                <a:latin typeface="Tw Cen MT"/>
                <a:cs typeface="Times New Roman"/>
              </a:rPr>
              <a:t>نحوه تخصیص بها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2" name=""/>
          <p:cNvSpPr txBox="1"/>
          <p:nvPr/>
        </p:nvSpPr>
        <p:spPr>
          <a:xfrm>
            <a:off x="914040" y="960120"/>
            <a:ext cx="1036332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 rtl="1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2060"/>
                </a:solidFill>
                <a:latin typeface="Tw Cen MT"/>
                <a:cs typeface="B Nazanin"/>
              </a:rPr>
              <a:t>نکته : تخصیص بهای عوامل مستقیم از طریق رهگیری و بهای عوامل غیر مستقیم از طریق تسهیم صورت می گیرید 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algn="r" rtl="1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2060"/>
                </a:solidFill>
                <a:latin typeface="Tw Cen MT"/>
                <a:cs typeface="B Nazanin"/>
              </a:rPr>
              <a:t>برای درک بهتر موضوع شکل زیر را در نظر بگیرید :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algn="r" rtl="1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3" name="Round Single Corner Rectangle 5"/>
          <p:cNvSpPr/>
          <p:nvPr/>
        </p:nvSpPr>
        <p:spPr>
          <a:xfrm>
            <a:off x="347760" y="2185920"/>
            <a:ext cx="1288800" cy="1462320"/>
          </a:xfrm>
          <a:prstGeom prst="pie">
            <a:avLst/>
          </a:prstGeom>
          <a:solidFill>
            <a:srgbClr val="e34b7a"/>
          </a:solidFill>
          <a:ln w="15840">
            <a:solidFill>
              <a:srgbClr val="a735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a-IR" sz="1600" spc="-1" strike="noStrike">
                <a:solidFill>
                  <a:srgbClr val="ffffff"/>
                </a:solidFill>
                <a:latin typeface="Tw Cen MT"/>
                <a:cs typeface="B Nazanin"/>
              </a:rPr>
              <a:t>موضوع بهایابی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a-IR" sz="1600" spc="-1" strike="noStrike">
                <a:solidFill>
                  <a:srgbClr val="ffffff"/>
                </a:solidFill>
                <a:latin typeface="Tw Cen MT"/>
                <a:cs typeface="B Nazanin"/>
              </a:rPr>
              <a:t>صندلی چوبی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4" name="Oval 6"/>
          <p:cNvSpPr/>
          <p:nvPr/>
        </p:nvSpPr>
        <p:spPr>
          <a:xfrm>
            <a:off x="5446800" y="2084400"/>
            <a:ext cx="1755720" cy="860400"/>
          </a:xfrm>
          <a:prstGeom prst="ellipse">
            <a:avLst/>
          </a:prstGeom>
          <a:solidFill>
            <a:srgbClr val="de85e1"/>
          </a:solidFill>
          <a:ln w="15840">
            <a:solidFill>
              <a:srgbClr val="a360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a-IR" sz="1800" spc="-1" strike="noStrike">
                <a:solidFill>
                  <a:srgbClr val="ffffff"/>
                </a:solidFill>
                <a:latin typeface="Tw Cen MT"/>
                <a:cs typeface="B Nazanin"/>
              </a:rPr>
              <a:t>بهای مستقیم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5" name="Oval 7"/>
          <p:cNvSpPr/>
          <p:nvPr/>
        </p:nvSpPr>
        <p:spPr>
          <a:xfrm>
            <a:off x="5410080" y="2951280"/>
            <a:ext cx="1755720" cy="858600"/>
          </a:xfrm>
          <a:prstGeom prst="ellipse">
            <a:avLst/>
          </a:prstGeom>
          <a:solidFill>
            <a:srgbClr val="de85e1"/>
          </a:solidFill>
          <a:ln w="15840">
            <a:solidFill>
              <a:srgbClr val="a360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a-IR" sz="1800" spc="-1" strike="noStrike">
                <a:solidFill>
                  <a:srgbClr val="ffffff"/>
                </a:solidFill>
                <a:latin typeface="Tw Cen MT"/>
                <a:cs typeface="B Nazanin"/>
              </a:rPr>
              <a:t>بهای غیر مستقیم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cxnSp>
        <p:nvCxnSpPr>
          <p:cNvPr id="796" name="Straight Arrow Connector 9"/>
          <p:cNvCxnSpPr>
            <a:stCxn id="794" idx="2"/>
          </p:cNvCxnSpPr>
          <p:nvPr/>
        </p:nvCxnSpPr>
        <p:spPr>
          <a:xfrm flipH="1">
            <a:off x="1636200" y="2514240"/>
            <a:ext cx="3810960" cy="1080"/>
          </a:xfrm>
          <a:prstGeom prst="straightConnector1">
            <a:avLst/>
          </a:prstGeom>
          <a:ln w="9360">
            <a:solidFill>
              <a:srgbClr val="338baa"/>
            </a:solidFill>
            <a:miter/>
            <a:tailEnd len="med" type="triangle" w="med"/>
          </a:ln>
        </p:spPr>
      </p:cxnSp>
      <p:pic>
        <p:nvPicPr>
          <p:cNvPr id="797" name="TextBox 10" descr=""/>
          <p:cNvPicPr/>
          <p:nvPr/>
        </p:nvPicPr>
        <p:blipFill>
          <a:blip r:embed="rId1"/>
          <a:stretch/>
        </p:blipFill>
        <p:spPr>
          <a:xfrm>
            <a:off x="2955960" y="2084400"/>
            <a:ext cx="2768400" cy="372960"/>
          </a:xfrm>
          <a:prstGeom prst="rect">
            <a:avLst/>
          </a:prstGeom>
          <a:ln w="0">
            <a:noFill/>
          </a:ln>
        </p:spPr>
      </p:pic>
      <p:cxnSp>
        <p:nvCxnSpPr>
          <p:cNvPr id="798" name="Straight Arrow Connector 12"/>
          <p:cNvCxnSpPr/>
          <p:nvPr/>
        </p:nvCxnSpPr>
        <p:spPr>
          <a:xfrm flipH="1">
            <a:off x="1636200" y="3435120"/>
            <a:ext cx="3810960" cy="1080"/>
          </a:xfrm>
          <a:prstGeom prst="straightConnector1">
            <a:avLst/>
          </a:prstGeom>
          <a:ln w="9360">
            <a:solidFill>
              <a:srgbClr val="338baa"/>
            </a:solidFill>
            <a:miter/>
            <a:tailEnd len="med" type="triangle" w="med"/>
          </a:ln>
        </p:spPr>
      </p:cxnSp>
      <p:pic>
        <p:nvPicPr>
          <p:cNvPr id="799" name="TextBox 13" descr=""/>
          <p:cNvPicPr/>
          <p:nvPr/>
        </p:nvPicPr>
        <p:blipFill>
          <a:blip r:embed="rId2"/>
          <a:stretch/>
        </p:blipFill>
        <p:spPr>
          <a:xfrm>
            <a:off x="2955960" y="3035160"/>
            <a:ext cx="2768400" cy="366840"/>
          </a:xfrm>
          <a:prstGeom prst="rect">
            <a:avLst/>
          </a:prstGeom>
          <a:ln w="0">
            <a:noFill/>
          </a:ln>
        </p:spPr>
      </p:pic>
      <p:sp>
        <p:nvSpPr>
          <p:cNvPr id="800" name="Rectangle 14"/>
          <p:cNvSpPr/>
          <p:nvPr/>
        </p:nvSpPr>
        <p:spPr>
          <a:xfrm>
            <a:off x="8056440" y="2322360"/>
            <a:ext cx="1673280" cy="406440"/>
          </a:xfrm>
          <a:prstGeom prst="rect">
            <a:avLst/>
          </a:prstGeom>
          <a:solidFill>
            <a:srgbClr val="e34b7a"/>
          </a:solidFill>
          <a:ln w="15840">
            <a:solidFill>
              <a:srgbClr val="a735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a-IR" sz="1800" spc="-1" strike="noStrike">
                <a:solidFill>
                  <a:srgbClr val="ffffff"/>
                </a:solidFill>
                <a:latin typeface="Tw Cen MT"/>
                <a:cs typeface="B Nazanin"/>
              </a:rPr>
              <a:t>چوب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1" name="Rectangle 15"/>
          <p:cNvSpPr/>
          <p:nvPr/>
        </p:nvSpPr>
        <p:spPr>
          <a:xfrm>
            <a:off x="8056440" y="3116160"/>
            <a:ext cx="1673280" cy="406440"/>
          </a:xfrm>
          <a:prstGeom prst="rect">
            <a:avLst/>
          </a:prstGeom>
          <a:solidFill>
            <a:srgbClr val="e34b7a"/>
          </a:solidFill>
          <a:ln w="15840">
            <a:solidFill>
              <a:srgbClr val="a735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a-IR" sz="1800" spc="-1" strike="noStrike">
                <a:solidFill>
                  <a:srgbClr val="ffffff"/>
                </a:solidFill>
                <a:latin typeface="Tw Cen MT"/>
                <a:cs typeface="B Nazanin"/>
              </a:rPr>
              <a:t>برق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cxnSp>
        <p:nvCxnSpPr>
          <p:cNvPr id="802" name="Straight Arrow Connector 17"/>
          <p:cNvCxnSpPr>
            <a:stCxn id="800" idx="1"/>
            <a:endCxn id="794" idx="6"/>
          </p:cNvCxnSpPr>
          <p:nvPr/>
        </p:nvCxnSpPr>
        <p:spPr>
          <a:xfrm flipH="1" flipV="1">
            <a:off x="7202160" y="2513880"/>
            <a:ext cx="854640" cy="11880"/>
          </a:xfrm>
          <a:prstGeom prst="straightConnector1">
            <a:avLst/>
          </a:prstGeom>
          <a:ln w="9360">
            <a:solidFill>
              <a:srgbClr val="b53a60"/>
            </a:solidFill>
            <a:miter/>
            <a:tailEnd len="med" type="triangle" w="med"/>
          </a:ln>
        </p:spPr>
      </p:cxnSp>
      <p:cxnSp>
        <p:nvCxnSpPr>
          <p:cNvPr id="803" name="Straight Arrow Connector 19"/>
          <p:cNvCxnSpPr/>
          <p:nvPr/>
        </p:nvCxnSpPr>
        <p:spPr>
          <a:xfrm flipH="1" flipV="1">
            <a:off x="7184520" y="3318840"/>
            <a:ext cx="853200" cy="11880"/>
          </a:xfrm>
          <a:prstGeom prst="straightConnector1">
            <a:avLst/>
          </a:prstGeom>
          <a:ln w="9360">
            <a:solidFill>
              <a:srgbClr val="b53a60"/>
            </a:solidFill>
            <a:miter/>
            <a:tailEnd len="med" type="triangle" w="med"/>
          </a:ln>
        </p:spPr>
      </p:cxnSp>
      <p:pic>
        <p:nvPicPr>
          <p:cNvPr id="804" name="نحوه تخصیص.3gp" descr=""/>
          <p:cNvPicPr/>
          <p:nvPr/>
        </p:nvPicPr>
        <p:blipFill>
          <a:blip r:embed="rId3"/>
          <a:stretch/>
        </p:blipFill>
        <p:spPr>
          <a:xfrm>
            <a:off x="5791320" y="3124080"/>
            <a:ext cx="60948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804"/>
                    </p:tgtEl>
                  </p:cond>
                </p:stCondLst>
                <p:childTnLst>
                  <p:par>
                    <p:cTn id="21" nodeType="clickEffect" fill="hold">
                      <p:stCondLst>
                        <p:cond evt="onClick">
                          <p:tgtEl>
                            <p:spTgt spid="804"/>
                          </p:tgtEl>
                        </p:cond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79480" fill="hold"/>
                                        <p:tgtEl>
                                          <p:spTgt spid="8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914040" y="118800"/>
            <a:ext cx="10363320" cy="106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000000"/>
                </a:solidFill>
                <a:latin typeface="Tw Cen MT"/>
                <a:cs typeface="Times New Roman"/>
              </a:rPr>
              <a:t>عامل بها و مدیریت بها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6" name=""/>
          <p:cNvSpPr txBox="1"/>
          <p:nvPr/>
        </p:nvSpPr>
        <p:spPr>
          <a:xfrm>
            <a:off x="914040" y="914040"/>
            <a:ext cx="103633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 rtl="1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2060"/>
                </a:solidFill>
                <a:latin typeface="Tw Cen MT"/>
                <a:cs typeface="B Nazanin"/>
              </a:rPr>
              <a:t>منظور از عامل بها که محرک بها نیز نامیده می شود عاملی است که بر بهای کل تاثیر می گذارد . یعنی تغییر در میزان آن باعث تغییر در جمع مبلغ بهای مربوز به موضوع بهایابی مورد نظر می شود 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algn="r" rtl="1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0000"/>
                </a:solidFill>
                <a:latin typeface="Tw Cen MT"/>
                <a:cs typeface="B Nazanin"/>
              </a:rPr>
              <a:t>نکته : عامل بها می تواند یک پارامتر مالی مانند بهای دستمزد مستقیم و یا یک پارامتر غیر مالی مانندتعداد محصولات تولید شده باشد 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algn="r" rtl="1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2060"/>
                </a:solidFill>
                <a:latin typeface="Tw Cen MT"/>
                <a:cs typeface="B Nazanin"/>
              </a:rPr>
              <a:t>مدیریت بها :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algn="r" rtl="1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2060"/>
                </a:solidFill>
                <a:latin typeface="Tw Cen MT"/>
                <a:cs typeface="B Nazanin"/>
              </a:rPr>
              <a:t>شرکتها برای کاهش قیمت فروش ناگزیر هستند که بهای تمام شده خود را کنترل کنند . یعنی تنها به فعالیتهایی بپردازند که باعث ایجاد ارزش در دید مشتری می شوند و این فعالیتها را به گونه ای کارا و تپر بخش انجام دهند . و یا به عبارتی مدیریت بها عبارت است از :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algn="r" rtl="1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2060"/>
                </a:solidFill>
                <a:latin typeface="Tw Cen MT"/>
                <a:cs typeface="B Nazanin"/>
              </a:rPr>
              <a:t>مجموعه اقدامات مدیریت که ضمن انجام تاشهای مستمر برای کنرل و کاهش بهای تمام شده محصول به منظور جلب رضایت مشتریان به عمل می آید 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algn="r" rtl="1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807" name="AUD-20200409-WA0013.m4a" descr=""/>
          <p:cNvPicPr/>
          <p:nvPr/>
        </p:nvPicPr>
        <p:blipFill>
          <a:blip r:embed="rId1"/>
          <a:stretch/>
        </p:blipFill>
        <p:spPr>
          <a:xfrm>
            <a:off x="5851440" y="3184560"/>
            <a:ext cx="48744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restart="whenNotActive" nodeType="interactiveSeq" fill="hold">
                <p:stCondLst>
                  <p:cond evt="onClick">
                    <p:tgtEl>
                      <p:spTgt spid="807"/>
                    </p:tgtEl>
                  </p:cond>
                </p:stCondLst>
                <p:childTnLst>
                  <p:par>
                    <p:cTn id="27" nodeType="clickEffect" fill="hold">
                      <p:stCondLst>
                        <p:cond evt="onClick">
                          <p:tgtEl>
                            <p:spTgt spid="807"/>
                          </p:tgtEl>
                        </p:cond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162748" fill="hold"/>
                                        <p:tgtEl>
                                          <p:spTgt spid="8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914040" y="99720"/>
            <a:ext cx="10363320" cy="103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000000"/>
                </a:solidFill>
                <a:latin typeface="Tw Cen MT"/>
                <a:cs typeface="Times New Roman"/>
              </a:rPr>
              <a:t>بهای تولید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9" name=""/>
          <p:cNvSpPr txBox="1"/>
          <p:nvPr/>
        </p:nvSpPr>
        <p:spPr>
          <a:xfrm>
            <a:off x="914040" y="1033560"/>
            <a:ext cx="1036332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algn="r" rtl="1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2060"/>
                </a:solidFill>
                <a:latin typeface="Tw Cen MT"/>
                <a:cs typeface="B Nazanin"/>
              </a:rPr>
              <a:t>در حسابداری بهای تمام شده برای محاسبه بهای تولید از اصطلاحات خاصی استفاده می شود که این اصطلاحات عبارتند از :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algn="r" rtl="1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0000"/>
                </a:solidFill>
                <a:latin typeface="Tw Cen MT"/>
                <a:ea typeface="B Nazanin"/>
              </a:rPr>
              <a:t>1</a:t>
            </a:r>
            <a:r>
              <a:rPr b="1" lang="fa-IR" sz="1800" spc="-1" strike="noStrike">
                <a:solidFill>
                  <a:srgbClr val="ff0000"/>
                </a:solidFill>
                <a:latin typeface="Tw Cen MT"/>
                <a:ea typeface="B Nazanin"/>
              </a:rPr>
              <a:t>- مواد مستقیم : </a:t>
            </a:r>
            <a:r>
              <a:rPr b="1" lang="fa-IR" sz="1800" spc="-1" strike="noStrike">
                <a:solidFill>
                  <a:srgbClr val="002060"/>
                </a:solidFill>
                <a:latin typeface="Tw Cen MT"/>
                <a:cs typeface="B Nazanin"/>
              </a:rPr>
              <a:t>به مواد اولیه ای گفته می شود که در تولید محصول نقش مستقیم داشته و به عنوان بخشی از کالای ساخته شده محسوب می گردد و می توان بهای آن را به آسانی و به طور مستقیم به کالای ساخته شده اختصاص داد. مانند بهای چوب در صندلی چوبی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algn="r" rtl="1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2060"/>
                </a:solidFill>
                <a:latin typeface="Tw Cen MT"/>
                <a:cs typeface="B Nazanin"/>
              </a:rPr>
              <a:t>مواد مستقیم دارای سه ویژگی زیر می باشند :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algn="r" rtl="1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2060"/>
                </a:solidFill>
                <a:latin typeface="Tw Cen MT"/>
                <a:cs typeface="B Nazanin"/>
              </a:rPr>
              <a:t>الف : میزان مصرف آنها با میزان تولید رابطه مستقیم دارد 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algn="r" rtl="1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2060"/>
                </a:solidFill>
                <a:latin typeface="Tw Cen MT"/>
                <a:cs typeface="B Nazanin"/>
              </a:rPr>
              <a:t>ب : در مقایسه با ارزش کا کالای ساخته شده ارزش اقتصادی قابل ملاحظه ای دارد 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algn="r" rtl="1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2060"/>
                </a:solidFill>
                <a:latin typeface="Tw Cen MT"/>
                <a:cs typeface="B Nazanin"/>
              </a:rPr>
              <a:t>ج : بخشی از شکل فیزیکی کالای ساخته شده را تشکیل می دهد و معمولا در محصول ساخه شده قابل رویت و قابل لمس می باشد 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algn="r" rtl="1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0000"/>
                </a:solidFill>
                <a:latin typeface="Tw Cen MT"/>
                <a:cs typeface="B Nazanin"/>
              </a:rPr>
              <a:t>نکته : در ساخت محصولات ممکن است مواد دیگری نیز مصرف شوند که جزئی و کم اهمیت باشند و به آسانی نتوان بهای آن را به کالاسی ساخته شده اختصاص داد به اینگونه مواد اصطلاحا مواد غیر مستقیم گفته می شود اینگونه مواد معمولا ارزش اقتصادی بالایی ندارند و به عنوان بخشی از سربار محسوب می شوند . مانند چسب در تولید صندلی چوبی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810" name="اسلاید17.3gp" descr=""/>
          <p:cNvPicPr/>
          <p:nvPr/>
        </p:nvPicPr>
        <p:blipFill>
          <a:blip r:embed="rId1"/>
          <a:stretch/>
        </p:blipFill>
        <p:spPr>
          <a:xfrm>
            <a:off x="5791320" y="3124080"/>
            <a:ext cx="60948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restart="whenNotActive" nodeType="interactiveSeq" fill="hold">
                <p:stCondLst>
                  <p:cond evt="onClick">
                    <p:tgtEl>
                      <p:spTgt spid="810"/>
                    </p:tgtEl>
                  </p:cond>
                </p:stCondLst>
                <p:childTnLst>
                  <p:par>
                    <p:cTn id="33" nodeType="clickEffect" fill="hold">
                      <p:stCondLst>
                        <p:cond evt="onClick">
                          <p:tgtEl>
                            <p:spTgt spid="810"/>
                          </p:tgtEl>
                        </p:cond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163511" fill="hold"/>
                                        <p:tgtEl>
                                          <p:spTgt spid="8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914040" y="-123480"/>
            <a:ext cx="1036332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2" name=""/>
          <p:cNvSpPr txBox="1"/>
          <p:nvPr/>
        </p:nvSpPr>
        <p:spPr>
          <a:xfrm>
            <a:off x="914400" y="361800"/>
            <a:ext cx="10267920" cy="542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 rtl="1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2060"/>
                </a:solidFill>
                <a:latin typeface="Tw Cen MT"/>
                <a:ea typeface="B Nazanin"/>
              </a:rPr>
              <a:t>2</a:t>
            </a:r>
            <a:r>
              <a:rPr b="1" lang="fa-IR" sz="1800" spc="-1" strike="noStrike">
                <a:solidFill>
                  <a:srgbClr val="002060"/>
                </a:solidFill>
                <a:latin typeface="Tw Cen MT"/>
                <a:ea typeface="B Nazanin"/>
              </a:rPr>
              <a:t>- دستمزد مستقیم : عبارت است از دستمزد کارگرانی که در تولید محصول نقش مستقیم داشته و در اثر کا آنها مواد اولیه تغییر شکل یافته و تبدیل به کالای ساخته شده می شود . و می توان بهای آن را به سهولت و به طور مستقیم به کالای ساخته شده اختصاص داد مانند دستمزد کارگران بخش مونتاژ 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algn="r" rtl="1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0000"/>
                </a:solidFill>
                <a:latin typeface="Tw Cen MT"/>
                <a:cs typeface="B Nazanin"/>
              </a:rPr>
              <a:t>نکته : دستمزد آن دسته از کارگرانی که مستقیماً در تولید نقش ندارند دستمزد غیر مستقیم نامیده شده و جزء سربار محسوب می شوند مانند دستمزد نگهبان شرکت 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algn="r" rtl="1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2060"/>
                </a:solidFill>
                <a:latin typeface="Tw Cen MT"/>
                <a:ea typeface="B Nazanin"/>
              </a:rPr>
              <a:t>3</a:t>
            </a:r>
            <a:r>
              <a:rPr b="1" lang="fa-IR" sz="1800" spc="-1" strike="noStrike">
                <a:solidFill>
                  <a:srgbClr val="002060"/>
                </a:solidFill>
                <a:latin typeface="Tw Cen MT"/>
                <a:ea typeface="B Nazanin"/>
              </a:rPr>
              <a:t>- سربار ساخت :آن بخش از بهای ساخت که نمی توان آن را به آسانی به کالای ساخته شده اختصاص داد اصطلاحا سربار ساخت محسوب می شوند به جز مواد و دستمزد غیر مستقیم برخی از بها ها مانند تعمیر ماشین آلات ، استهلاک ، آب و برق مصرفی نیز بخشی از سربار محسوب می شوند . نمودار زیر عوامل تشکیل دهنده بهای محصول را نشان می دهد :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algn="r" rtl="1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3" name="Rectangle 3"/>
          <p:cNvSpPr/>
          <p:nvPr/>
        </p:nvSpPr>
        <p:spPr>
          <a:xfrm>
            <a:off x="1790640" y="3695760"/>
            <a:ext cx="781200" cy="399960"/>
          </a:xfrm>
          <a:prstGeom prst="rect">
            <a:avLst/>
          </a:prstGeom>
          <a:solidFill>
            <a:srgbClr val="e34b7a"/>
          </a:solidFill>
          <a:ln w="15840">
            <a:solidFill>
              <a:srgbClr val="a735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a-IR" sz="1800" spc="-1" strike="noStrike">
                <a:solidFill>
                  <a:srgbClr val="ffffff"/>
                </a:solidFill>
                <a:latin typeface="Tw Cen MT"/>
                <a:cs typeface="Arial"/>
              </a:rPr>
              <a:t>دستمزد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4" name="Rectangle 4"/>
          <p:cNvSpPr/>
          <p:nvPr/>
        </p:nvSpPr>
        <p:spPr>
          <a:xfrm>
            <a:off x="3743280" y="4095720"/>
            <a:ext cx="1790640" cy="504720"/>
          </a:xfrm>
          <a:prstGeom prst="rect">
            <a:avLst/>
          </a:prstGeom>
          <a:solidFill>
            <a:srgbClr val="e34b7a"/>
          </a:solidFill>
          <a:ln w="15840">
            <a:solidFill>
              <a:srgbClr val="a735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5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a-IR" sz="1800" spc="-1" strike="noStrike">
                <a:solidFill>
                  <a:srgbClr val="ffffff"/>
                </a:solidFill>
                <a:latin typeface="Tw Cen MT"/>
                <a:cs typeface="Arial"/>
              </a:rPr>
              <a:t>سایر هزینه های ساخت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5" name="Rectangle 5"/>
          <p:cNvSpPr/>
          <p:nvPr/>
        </p:nvSpPr>
        <p:spPr>
          <a:xfrm>
            <a:off x="6353280" y="3695760"/>
            <a:ext cx="780840" cy="399960"/>
          </a:xfrm>
          <a:prstGeom prst="rect">
            <a:avLst/>
          </a:prstGeom>
          <a:solidFill>
            <a:srgbClr val="e34b7a"/>
          </a:solidFill>
          <a:ln w="15840">
            <a:solidFill>
              <a:srgbClr val="a735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a-IR" sz="1800" spc="-1" strike="noStrike">
                <a:solidFill>
                  <a:srgbClr val="ffffff"/>
                </a:solidFill>
                <a:latin typeface="Tw Cen MT"/>
                <a:cs typeface="Arial"/>
              </a:rPr>
              <a:t>مواد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6" name="Rectangle 6"/>
          <p:cNvSpPr/>
          <p:nvPr/>
        </p:nvSpPr>
        <p:spPr>
          <a:xfrm>
            <a:off x="1276200" y="5400720"/>
            <a:ext cx="1257480" cy="590400"/>
          </a:xfrm>
          <a:prstGeom prst="rect">
            <a:avLst/>
          </a:prstGeom>
          <a:solidFill>
            <a:srgbClr val="e34b7a"/>
          </a:solidFill>
          <a:ln w="15840">
            <a:solidFill>
              <a:srgbClr val="a735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0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a-IR" sz="1800" spc="-1" strike="noStrike">
                <a:solidFill>
                  <a:srgbClr val="ffffff"/>
                </a:solidFill>
                <a:latin typeface="Tw Cen MT"/>
                <a:cs typeface="Arial"/>
              </a:rPr>
              <a:t>دستمزد مستقیم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7" name="Rectangle 7"/>
          <p:cNvSpPr/>
          <p:nvPr/>
        </p:nvSpPr>
        <p:spPr>
          <a:xfrm>
            <a:off x="3848040" y="5467320"/>
            <a:ext cx="1514520" cy="399960"/>
          </a:xfrm>
          <a:prstGeom prst="rect">
            <a:avLst/>
          </a:prstGeom>
          <a:solidFill>
            <a:srgbClr val="e34b7a"/>
          </a:solidFill>
          <a:ln w="15840">
            <a:solidFill>
              <a:srgbClr val="a735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a-IR" sz="1800" spc="-1" strike="noStrike">
                <a:solidFill>
                  <a:srgbClr val="ffffff"/>
                </a:solidFill>
                <a:latin typeface="Tw Cen MT"/>
                <a:cs typeface="Arial"/>
              </a:rPr>
              <a:t>سربار ساخت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8" name="Rectangle 8"/>
          <p:cNvSpPr/>
          <p:nvPr/>
        </p:nvSpPr>
        <p:spPr>
          <a:xfrm>
            <a:off x="6353280" y="5467320"/>
            <a:ext cx="1209600" cy="600120"/>
          </a:xfrm>
          <a:prstGeom prst="rect">
            <a:avLst/>
          </a:prstGeom>
          <a:solidFill>
            <a:srgbClr val="e34b7a"/>
          </a:solidFill>
          <a:ln w="15840">
            <a:solidFill>
              <a:srgbClr val="a735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2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a-IR" sz="1800" spc="-1" strike="noStrike">
                <a:solidFill>
                  <a:srgbClr val="ffffff"/>
                </a:solidFill>
                <a:latin typeface="Tw Cen MT"/>
                <a:cs typeface="Arial"/>
              </a:rPr>
              <a:t>مواد مستقیم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cxnSp>
        <p:nvCxnSpPr>
          <p:cNvPr id="819" name="Straight Arrow Connector 10"/>
          <p:cNvCxnSpPr>
            <a:stCxn id="813" idx="3"/>
          </p:cNvCxnSpPr>
          <p:nvPr/>
        </p:nvCxnSpPr>
        <p:spPr>
          <a:xfrm>
            <a:off x="2571840" y="3895560"/>
            <a:ext cx="1257840" cy="1572480"/>
          </a:xfrm>
          <a:prstGeom prst="straightConnector1">
            <a:avLst/>
          </a:prstGeom>
          <a:ln w="19080">
            <a:solidFill>
              <a:srgbClr val="338baa"/>
            </a:solidFill>
            <a:miter/>
            <a:tailEnd len="med" type="triangle" w="med"/>
          </a:ln>
        </p:spPr>
      </p:cxnSp>
      <p:cxnSp>
        <p:nvCxnSpPr>
          <p:cNvPr id="820" name="Straight Arrow Connector 16"/>
          <p:cNvCxnSpPr/>
          <p:nvPr/>
        </p:nvCxnSpPr>
        <p:spPr>
          <a:xfrm flipH="1">
            <a:off x="5126760" y="4127040"/>
            <a:ext cx="1226520" cy="1389960"/>
          </a:xfrm>
          <a:prstGeom prst="straightConnector1">
            <a:avLst/>
          </a:prstGeom>
          <a:ln w="19080">
            <a:solidFill>
              <a:srgbClr val="338baa"/>
            </a:solidFill>
            <a:miter/>
            <a:tailEnd len="med" type="triangle" w="med"/>
          </a:ln>
        </p:spPr>
      </p:cxnSp>
      <p:cxnSp>
        <p:nvCxnSpPr>
          <p:cNvPr id="821" name="Straight Arrow Connector 18"/>
          <p:cNvCxnSpPr>
            <a:endCxn id="817" idx="0"/>
          </p:cNvCxnSpPr>
          <p:nvPr/>
        </p:nvCxnSpPr>
        <p:spPr>
          <a:xfrm>
            <a:off x="4605120" y="4700520"/>
            <a:ext cx="1080" cy="767520"/>
          </a:xfrm>
          <a:prstGeom prst="straightConnector1">
            <a:avLst/>
          </a:prstGeom>
          <a:ln w="19080">
            <a:solidFill>
              <a:srgbClr val="338baa"/>
            </a:solidFill>
            <a:miter/>
            <a:tailEnd len="med" type="triangle" w="med"/>
          </a:ln>
        </p:spPr>
      </p:cxnSp>
      <p:sp>
        <p:nvSpPr>
          <p:cNvPr id="822" name="TextBox 25"/>
          <p:cNvSpPr/>
          <p:nvPr/>
        </p:nvSpPr>
        <p:spPr>
          <a:xfrm rot="3142800">
            <a:off x="2476800" y="4118400"/>
            <a:ext cx="107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Tw Cen MT"/>
                <a:cs typeface="Arial"/>
              </a:rPr>
              <a:t>غیر مستقیم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cxnSp>
        <p:nvCxnSpPr>
          <p:cNvPr id="823" name="Straight Arrow Connector 27"/>
          <p:cNvCxnSpPr/>
          <p:nvPr/>
        </p:nvCxnSpPr>
        <p:spPr>
          <a:xfrm flipH="1">
            <a:off x="2074320" y="4171680"/>
            <a:ext cx="43560" cy="1229400"/>
          </a:xfrm>
          <a:prstGeom prst="straightConnector1">
            <a:avLst/>
          </a:prstGeom>
          <a:ln w="19080">
            <a:solidFill>
              <a:srgbClr val="338baa"/>
            </a:solidFill>
            <a:miter/>
            <a:tailEnd len="med" type="triangle" w="med"/>
          </a:ln>
        </p:spPr>
      </p:cxnSp>
      <p:sp>
        <p:nvSpPr>
          <p:cNvPr id="824" name="TextBox 32"/>
          <p:cNvSpPr/>
          <p:nvPr/>
        </p:nvSpPr>
        <p:spPr>
          <a:xfrm rot="16200000">
            <a:off x="1575000" y="4460040"/>
            <a:ext cx="78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Tw Cen MT"/>
                <a:cs typeface="Arial"/>
              </a:rPr>
              <a:t>مستقیم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25" name="TextBox 33"/>
          <p:cNvSpPr/>
          <p:nvPr/>
        </p:nvSpPr>
        <p:spPr>
          <a:xfrm rot="18877800">
            <a:off x="5598000" y="4415400"/>
            <a:ext cx="107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Tw Cen MT"/>
                <a:cs typeface="Arial"/>
              </a:rPr>
              <a:t>غیر مستقیم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26" name="TextBox 34"/>
          <p:cNvSpPr/>
          <p:nvPr/>
        </p:nvSpPr>
        <p:spPr>
          <a:xfrm rot="16200000">
            <a:off x="6895080" y="4551840"/>
            <a:ext cx="78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Tw Cen MT"/>
                <a:cs typeface="Arial"/>
              </a:rPr>
              <a:t>مستقیم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cxnSp>
        <p:nvCxnSpPr>
          <p:cNvPr id="827" name="Straight Arrow Connector 35"/>
          <p:cNvCxnSpPr>
            <a:endCxn id="818" idx="0"/>
          </p:cNvCxnSpPr>
          <p:nvPr/>
        </p:nvCxnSpPr>
        <p:spPr>
          <a:xfrm>
            <a:off x="6924240" y="4172040"/>
            <a:ext cx="34200" cy="1296000"/>
          </a:xfrm>
          <a:prstGeom prst="straightConnector1">
            <a:avLst/>
          </a:prstGeom>
          <a:ln w="19080">
            <a:solidFill>
              <a:srgbClr val="338baa"/>
            </a:solidFill>
            <a:miter/>
            <a:tailEnd len="med" type="triangle" w="med"/>
          </a:ln>
        </p:spPr>
      </p:cxnSp>
      <p:pic>
        <p:nvPicPr>
          <p:cNvPr id="828" name="18.3gp" descr=""/>
          <p:cNvPicPr/>
          <p:nvPr/>
        </p:nvPicPr>
        <p:blipFill>
          <a:blip r:embed="rId1"/>
          <a:stretch/>
        </p:blipFill>
        <p:spPr>
          <a:xfrm>
            <a:off x="5791320" y="3124080"/>
            <a:ext cx="60948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1" fill="hold"/>
                                        <p:tgtEl>
                                          <p:spTgt spid="82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914040" y="75960"/>
            <a:ext cx="103633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000000"/>
                </a:solidFill>
                <a:latin typeface="Tw Cen MT"/>
                <a:cs typeface="Times New Roman"/>
              </a:rPr>
              <a:t>بهای اولیه و بهای تبدیل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0" name=""/>
          <p:cNvSpPr txBox="1"/>
          <p:nvPr/>
        </p:nvSpPr>
        <p:spPr>
          <a:xfrm>
            <a:off x="914040" y="1066320"/>
            <a:ext cx="10363320" cy="503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700" spc="-1" strike="noStrike">
                <a:solidFill>
                  <a:srgbClr val="002060"/>
                </a:solidFill>
                <a:latin typeface="Tw Cen MT"/>
                <a:cs typeface="B Nazanin"/>
              </a:rPr>
              <a:t>گاهی اوقات در حسابداری بهای تمام شده عناصر اصلی بها با هم ترکیب می شوند و در عبارت زیر را بوجود می آورند . </a:t>
            </a: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700" spc="-1" strike="noStrike">
                <a:solidFill>
                  <a:srgbClr val="ff0000"/>
                </a:solidFill>
                <a:latin typeface="Tw Cen MT"/>
                <a:cs typeface="B Nazanin"/>
              </a:rPr>
              <a:t>بهای اولیه و بهای تبدیل: منظور از بهای اولیه اقلامی از بهای تمام شده می باشند که مستقیما در امر ولید دخالت دارند و منظور از بهایتبدیل اقلامی ا بهای تمام شده می باشند که در تبدیل مواد اولیه به محصول ایفای نقش می نمایند .</a:t>
            </a: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700" spc="-1" strike="noStrike">
                <a:solidFill>
                  <a:srgbClr val="ff0000"/>
                </a:solidFill>
                <a:latin typeface="Tw Cen MT"/>
                <a:cs typeface="B Nazanin"/>
              </a:rPr>
              <a:t>نکته : بهای اولیه و بهای تبدیل در یک جزء مشترک هستند و آن هم دستمزد مستقیم است .</a:t>
            </a: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700" spc="-1" strike="noStrike">
                <a:solidFill>
                  <a:srgbClr val="ff0000"/>
                </a:solidFill>
                <a:latin typeface="Tw Cen MT"/>
                <a:ea typeface="B Nazanin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700" spc="-1" strike="noStrike">
                <a:solidFill>
                  <a:srgbClr val="ff0000"/>
                </a:solidFill>
                <a:latin typeface="Tw Cen MT"/>
                <a:cs typeface="B Nazanin"/>
              </a:rPr>
              <a:t>مواد مستقیم+ دستمزد مستقیم = بهای اولیه</a:t>
            </a: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700" spc="-1" strike="noStrike">
                <a:solidFill>
                  <a:srgbClr val="ff0000"/>
                </a:solidFill>
                <a:latin typeface="Tw Cen MT"/>
                <a:ea typeface="B Nazanin"/>
              </a:rPr>
              <a:t> </a:t>
            </a:r>
            <a:r>
              <a:rPr b="1" lang="fa-IR" sz="1700" spc="-1" strike="noStrike">
                <a:solidFill>
                  <a:srgbClr val="ff0000"/>
                </a:solidFill>
                <a:latin typeface="Tw Cen MT"/>
                <a:cs typeface="B Nazanin"/>
              </a:rPr>
              <a:t>سربار ساخت+ دستمزد مستقیم = بهای تبدیل</a:t>
            </a:r>
            <a:r>
              <a:rPr b="1" lang="fa-IR" sz="1700" spc="-1" strike="noStrike">
                <a:solidFill>
                  <a:srgbClr val="ff0000"/>
                </a:solidFill>
                <a:latin typeface="Tw Cen MT"/>
                <a:ea typeface="B Nazanin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700" spc="-1" strike="noStrike">
                <a:solidFill>
                  <a:srgbClr val="002060"/>
                </a:solidFill>
                <a:latin typeface="Tw Cen MT"/>
                <a:cs typeface="B Nazanin"/>
              </a:rPr>
              <a:t>مثال : فرض کنید در شرکت جمشید بهای اولیه </a:t>
            </a:r>
            <a:r>
              <a:rPr b="1" lang="fa-IR" sz="1700" spc="-1" strike="noStrike">
                <a:solidFill>
                  <a:srgbClr val="002060"/>
                </a:solidFill>
                <a:latin typeface="Tw Cen MT"/>
                <a:ea typeface="B Nazanin"/>
              </a:rPr>
              <a:t>720،000</a:t>
            </a:r>
            <a:r>
              <a:rPr b="1" lang="fa-IR" sz="1700" spc="-1" strike="noStrike">
                <a:solidFill>
                  <a:srgbClr val="002060"/>
                </a:solidFill>
                <a:latin typeface="Tw Cen MT"/>
                <a:ea typeface="B Nazanin"/>
              </a:rPr>
              <a:t> ريال و بهای تبدیل </a:t>
            </a:r>
            <a:r>
              <a:rPr b="1" lang="fa-IR" sz="1700" spc="-1" strike="noStrike">
                <a:solidFill>
                  <a:srgbClr val="002060"/>
                </a:solidFill>
                <a:latin typeface="Tw Cen MT"/>
                <a:ea typeface="B Nazanin"/>
              </a:rPr>
              <a:t>600،000</a:t>
            </a:r>
            <a:r>
              <a:rPr b="1" lang="fa-IR" sz="1700" spc="-1" strike="noStrike">
                <a:solidFill>
                  <a:srgbClr val="002060"/>
                </a:solidFill>
                <a:latin typeface="Tw Cen MT"/>
                <a:ea typeface="B Nazanin"/>
              </a:rPr>
              <a:t> ريال است . در صورتی که سربار براساس </a:t>
            </a:r>
            <a:r>
              <a:rPr b="1" lang="fa-IR" sz="1700" spc="-1" strike="noStrike">
                <a:solidFill>
                  <a:srgbClr val="002060"/>
                </a:solidFill>
                <a:latin typeface="Tw Cen MT"/>
                <a:ea typeface="B Nazanin"/>
              </a:rPr>
              <a:t>50</a:t>
            </a:r>
            <a:r>
              <a:rPr b="1" lang="fa-IR" sz="1700" spc="-1" strike="noStrike">
                <a:solidFill>
                  <a:srgbClr val="002060"/>
                </a:solidFill>
                <a:latin typeface="Tw Cen MT"/>
                <a:ea typeface="B Nazanin"/>
              </a:rPr>
              <a:t>% دستمزد مستقیم جذب تولید شود بهای مواد مستقیم و دستمزد مسقیم و سربار ساخت را محاسبه نمایید .</a:t>
            </a: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700" spc="-1" strike="noStrike">
                <a:solidFill>
                  <a:srgbClr val="002060"/>
                </a:solidFill>
                <a:latin typeface="Tw Cen MT"/>
                <a:cs typeface="B Nazanin"/>
              </a:rPr>
              <a:t>حل : </a:t>
            </a: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2060"/>
                </a:solidFill>
                <a:latin typeface="Tw Cen MT"/>
                <a:ea typeface="B Nazanin"/>
              </a:rPr>
              <a:t>Z =</a:t>
            </a:r>
            <a:r>
              <a:rPr b="1" lang="fa-IR" sz="1700" spc="-1" strike="noStrike">
                <a:solidFill>
                  <a:srgbClr val="002060"/>
                </a:solidFill>
                <a:latin typeface="Tw Cen MT"/>
                <a:ea typeface="B Nazanin"/>
              </a:rPr>
              <a:t> </a:t>
            </a:r>
            <a:r>
              <a:rPr b="1" lang="fa-IR" sz="1700" spc="-1" strike="noStrike">
                <a:solidFill>
                  <a:srgbClr val="002060"/>
                </a:solidFill>
                <a:latin typeface="Tw Cen MT"/>
                <a:cs typeface="B Nazanin"/>
              </a:rPr>
              <a:t>سربار ساخت</a:t>
            </a: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2060"/>
                </a:solidFill>
                <a:latin typeface="Tw Cen MT"/>
                <a:ea typeface="B Nazanin"/>
              </a:rPr>
              <a:t>Y=</a:t>
            </a:r>
            <a:r>
              <a:rPr b="1" lang="fa-IR" sz="1700" spc="-1" strike="noStrike">
                <a:solidFill>
                  <a:srgbClr val="002060"/>
                </a:solidFill>
                <a:latin typeface="Tw Cen MT"/>
                <a:ea typeface="B Nazanin"/>
              </a:rPr>
              <a:t> </a:t>
            </a:r>
            <a:r>
              <a:rPr b="1" lang="fa-IR" sz="1700" spc="-1" strike="noStrike">
                <a:solidFill>
                  <a:srgbClr val="002060"/>
                </a:solidFill>
                <a:latin typeface="Tw Cen MT"/>
                <a:cs typeface="B Nazanin"/>
              </a:rPr>
              <a:t>دستمزد مستقیم</a:t>
            </a:r>
            <a:r>
              <a:rPr b="1" lang="fa-IR" sz="1700" spc="-1" strike="noStrike">
                <a:solidFill>
                  <a:srgbClr val="002060"/>
                </a:solidFill>
                <a:latin typeface="Tw Cen MT"/>
                <a:ea typeface="B Nazanin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2060"/>
                </a:solidFill>
                <a:latin typeface="Tw Cen MT"/>
                <a:ea typeface="B Nazanin"/>
              </a:rPr>
              <a:t>X=</a:t>
            </a:r>
            <a:r>
              <a:rPr b="1" lang="fa-IR" sz="1700" spc="-1" strike="noStrike">
                <a:solidFill>
                  <a:srgbClr val="002060"/>
                </a:solidFill>
                <a:latin typeface="Tw Cen MT"/>
                <a:cs typeface="B Nazanin"/>
              </a:rPr>
              <a:t>مواد مستقیم</a:t>
            </a:r>
            <a:r>
              <a:rPr b="1" lang="fa-IR" sz="1700" spc="-1" strike="noStrike">
                <a:solidFill>
                  <a:srgbClr val="002060"/>
                </a:solidFill>
                <a:latin typeface="Tw Cen MT"/>
                <a:ea typeface="B Nazanin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831" name="19.3gp" descr=""/>
          <p:cNvPicPr/>
          <p:nvPr/>
        </p:nvPicPr>
        <p:blipFill>
          <a:blip r:embed="rId1"/>
          <a:stretch/>
        </p:blipFill>
        <p:spPr>
          <a:xfrm>
            <a:off x="5791320" y="3124080"/>
            <a:ext cx="60948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restart="whenNotActive" nodeType="interactiveSeq" fill="hold">
                <p:stCondLst>
                  <p:cond evt="onClick">
                    <p:tgtEl>
                      <p:spTgt spid="831"/>
                    </p:tgtEl>
                  </p:cond>
                </p:stCondLst>
                <p:childTnLst>
                  <p:par>
                    <p:cTn id="45" nodeType="clickEffect" fill="hold">
                      <p:stCondLst>
                        <p:cond evt="onClick">
                          <p:tgtEl>
                            <p:spTgt spid="831"/>
                          </p:tgtEl>
                        </p:cond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162629" fill="hold"/>
                                        <p:tgtEl>
                                          <p:spTgt spid="8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914040" y="-147600"/>
            <a:ext cx="1036332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833" name="Content Placeholder 3" descr=""/>
          <p:cNvPicPr/>
          <p:nvPr/>
        </p:nvPicPr>
        <p:blipFill>
          <a:blip r:embed="rId1"/>
          <a:stretch/>
        </p:blipFill>
        <p:spPr>
          <a:xfrm>
            <a:off x="0" y="0"/>
            <a:ext cx="11839680" cy="6858000"/>
          </a:xfrm>
          <a:prstGeom prst="rect">
            <a:avLst/>
          </a:prstGeom>
          <a:ln w="0">
            <a:noFill/>
          </a:ln>
        </p:spPr>
      </p:pic>
      <p:pic>
        <p:nvPicPr>
          <p:cNvPr id="834" name="20.3gp" descr=""/>
          <p:cNvPicPr/>
          <p:nvPr/>
        </p:nvPicPr>
        <p:blipFill>
          <a:blip r:embed="rId2"/>
          <a:stretch/>
        </p:blipFill>
        <p:spPr>
          <a:xfrm>
            <a:off x="5791320" y="3124080"/>
            <a:ext cx="60948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restart="whenNotActive" nodeType="interactiveSeq" fill="hold">
                <p:stCondLst>
                  <p:cond evt="onClick">
                    <p:tgtEl>
                      <p:spTgt spid="834"/>
                    </p:tgtEl>
                  </p:cond>
                </p:stCondLst>
                <p:childTnLst>
                  <p:par>
                    <p:cTn id="51" nodeType="clickEffect" fill="hold">
                      <p:stCondLst>
                        <p:cond evt="onClick">
                          <p:tgtEl>
                            <p:spTgt spid="834"/>
                          </p:tgtEl>
                        </p:cond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189192" fill="hold"/>
                                        <p:tgtEl>
                                          <p:spTgt spid="8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4-09T17:50:58Z</dcterms:created>
  <dc:creator>Windows User</dc:creator>
  <dc:description/>
  <dc:language>en-US</dc:language>
  <cp:lastModifiedBy>Windows User</cp:lastModifiedBy>
  <dcterms:modified xsi:type="dcterms:W3CDTF">2020-04-09T17:56:28Z</dcterms:modified>
  <cp:revision>2</cp:revision>
  <dc:subject/>
  <dc:title>PowerPoint Presentation</dc:title>
</cp:coreProperties>
</file>