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E45-1422-4F71-B9AE-27C5BCE0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697-6C5C-41D0-AA87-4F7AA34D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4CA44-9728-4C71-B305-624FC91F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8529E-6590-4285-AA5B-0E0497BE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E5F27-BE18-4FDA-BAEB-6BA91F54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37421-A3B3-43C6-92E7-1AA8BDD8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D0B18-47CE-442D-B72B-209E49A0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870E5-8775-4A21-9425-9579A5D3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54E50-522C-4F58-A153-6CE0D49A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CC8E1-4F31-48BC-96EB-B1973D5C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1F4A6-7C16-46A8-B3B3-3D4BC7FE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F51C8-2787-42CE-A142-0BF24A10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BC2-A476-4E14-AEB8-4B3841DB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13CB5-C4E2-4E4D-AF6D-28F9B465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A1E04-B4B6-4A9A-9170-78FB3E1F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64D26-2CA6-4512-9D12-91CF783A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C16C4-927C-45F1-958E-9A7BAD76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0B04D-D114-4077-B79C-40D97B00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81780-0480-4FDE-AF2A-F410B4A8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2986F-5BE2-4327-A17E-38AA58F2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0777C-3C44-4BA2-8063-0AC45040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92B44-8CE7-45B7-934E-38D40BAB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3BA48-8DF9-4781-A992-8BA34E8D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FFF-47CE-413B-801F-E4FBFDD0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2D177-1972-40C7-B13C-9D726740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52C46-AA51-4654-94EC-F09BCB2B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7D2C1-3EC6-41FE-B2A6-606D93B9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5A8D9-A9F3-4D2E-B9A4-F0DB2D7A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38F8B-0D67-4495-A415-A2023731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C2CC0-05C9-4ABD-BFFB-D1A55477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12DB9-9B0E-460B-AA22-8DED1795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07685-FD3D-4AD4-B15E-EF5DD034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CAD59-8AD7-4DED-AF48-A1E443CD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3E980-0B32-466A-A7D9-5E79ACB4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1A96-C803-4BDE-ABC7-CC2F4E1A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E433E-9BBD-44CB-9418-E362AB1B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D6A03-900D-481D-8CB8-A8719148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12FCA-3D21-4635-97D4-214AA95B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A2318-5A64-47BA-8AA2-98F96A8A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C5124-9B8C-4EA5-AF5B-528786A1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7D772-8F4E-4DED-82CF-58BAFCEB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B4CB9-69FF-48CB-8459-29BBA979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74671-0B0D-4562-A3FD-8ED2EEC6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6EE96-CE87-427F-99E9-D31F2EA1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9EAE9-3322-459B-A403-A2BBBA8F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37A5-275A-433F-99B6-8CF55586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A94DF-E4EE-4371-A718-9A22EA99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C475C-418F-4E41-9D54-2E84A9DF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6F329-B28B-4BA3-A922-3AFF512E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3BDF6-4C8D-42A9-BC3D-5C51878A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E217D-44E0-48E2-A91C-4C809C30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03C51-C8F5-4061-AEB1-77F66562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2DB15-8412-450B-8098-68B1BE37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45F3E-0F2B-4D81-86B6-6D7EA297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A7813-7993-453C-9C5A-6E6160FD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AD844-27A2-443E-939C-2ED8DFA2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A6FB-87D3-43E3-8E89-2CFD1FE7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9C665-CE73-4E03-91EA-F5B6CBE5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15390-5890-449F-A78B-E96BA972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C2723-47A9-4DF0-A4C8-2DD0CC87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74858-1AD6-48B1-8192-5F74B6B3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A9488-B1E7-4CED-9D52-B7CF0D37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5B1A2-C912-4B78-9EDB-4F64F133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59D9F-58FC-452B-97AD-64F86C30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50CAF-A802-49EF-8C48-D899F230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F9E17-CD4F-4885-B921-4D23E3BC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E74BC-BAF5-43AE-B0E6-DA45F789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8EFF-26DA-4650-AE54-6825F20A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D47D0-F659-4EB6-8437-22390314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268F2-BFA5-48E2-AF2E-A0A76755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C3AA4-83FD-4930-9869-1C5C5AA6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FAD3B-F4AB-4245-8C9B-F1587D7A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CB81F-19B1-498C-BE7F-8C027D30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632A9E-16E8-4D97-89D7-515B88B3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72BB8-5686-47CA-81EF-C53ACB5A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1D4FC-6AF9-40CD-8864-3B96B4BE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2ECA0-36F4-4900-81F3-ECD18C43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14E9E-F024-4255-8E52-E11B4F98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3563-B67F-4E7E-A005-D9DC24FE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18D38-D171-4C4A-8839-B8B1CC3A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8C0B3-CDB4-4690-B178-9578559B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C1DAE-56A1-482A-9187-8006BE9F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23EAA-2097-46DE-AC81-87A55F93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AF609-91F4-45B1-9DF3-CCCD3CF5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B32598-8C1B-4F3E-ABEB-34EB665F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F3A3B3-253D-4458-A847-17243B16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EDD29-D332-40C8-9F0D-5E8D89C7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6E4E0-AC2D-4558-8970-5CF0E1D6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726B6-B126-4742-9ECF-3A8CF631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C9D9-0DD7-4FE3-8A40-6B2F3E26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32A76A-A55E-445D-AA25-1D618D4D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5A7AF0-5B9D-4988-9652-1B602D52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2A057-E873-45F5-9660-42D869D2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90648-55C3-41B5-BE40-20C4D200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5B3D2D-5BB0-421A-9B6C-7E278BA2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3FD9A-3FDF-4F7F-9A28-32150F4A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899B3-FE5E-4143-8B4A-99AA1081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B718BB-0A64-46FB-8D32-2697253E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B101FE-B2D3-48CA-AE2A-1C4B217D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79AC9-4E56-493C-975F-9DE4464E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557D-360D-4F9E-A248-8E537F09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08AB6E-4EF9-4224-AC76-7674C526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3741D-566F-4F94-BD08-E4EF2984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4722A-3019-41F0-B05E-A9130339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35723-FB94-4BB0-A243-F57609ED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D13621-0A5D-414C-A467-31590535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09037-D75A-4CEE-9823-5579A450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296D9-25B9-4BBE-A4E3-9189C95F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09A9C7-2E52-4281-A9BE-E7884561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BC043-A7A5-4719-9A98-91818CDC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CBAC5-01E4-4448-8F59-8514440B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5DB-ADF6-4B4C-9CE0-1B64C63B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D22E-6880-4264-A8C1-CE7F3D73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09090-8D7A-41EB-82FB-EDA6B887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66D55C-BBFD-4130-89BF-C801BE1C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9AED2-603C-44AA-B25C-ACC39C4A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CA91E1-6E28-4891-A013-D70F61FB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CC1AA-84FF-46F5-9257-404C7E4D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CBBFFC-9D45-48E6-8507-22AF8634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88D329-AD36-4384-B815-6F03E0C2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80192E-1969-4D9A-94C1-E7619BEA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3422B0-4728-4149-9D74-F69C831A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1A718-7322-4DFD-8904-8FEFA89E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8EFD-CB8F-439B-B53D-3E130042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AC3179-BF10-49AE-BCBB-92B4D8C2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6DA5C-91BC-4708-B736-499EC5AB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0C5C3-3489-49CD-8D43-21B3E3C0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6D8AC7-EFD2-403B-B599-28769FFD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42FFDB-6745-44F1-8F89-35774247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6070D5-2DA9-4D0E-931E-E6D7D26B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908A8-D738-41BB-AE26-6DEDFD71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8F22-64E7-4A69-B025-0AC84581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BC10-0642-4037-86C5-AB0A071D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B2FF-660F-4A16-A557-DA29FC8B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B8D11-E949-49EA-AB01-C77DF163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AF9B7-AC3E-4A0D-AA1D-412A63D3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7434A-1FEF-425B-9BD4-2E5AB620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DCC6-48D6-47CC-919D-95B92E65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5FFFB-88E2-4B78-817F-68B44690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70D-44DA-4DFE-9193-6E91C471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6B88D-CE35-4C83-AFE7-DEA33BC2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0ACB6-CD80-4B68-A057-6780A70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624A-5A49-46C8-A492-A7A9AE11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10247-5071-43DE-B7B9-E9A0472F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087FE-442C-4147-B59F-2077D22F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A482-4774-465E-AAFC-AE373846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5A2E9-EA81-46E7-BE75-45F4610C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F418B-96BE-43C7-B90C-BFC70E60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4163-C6B0-4DBB-95ED-667740EE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C986D-9477-45C0-9862-DD7FA851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6BB-28D8-43CF-9ECF-344CF5BE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A096-4C95-4666-A93B-1015FDD6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BFBE7-77FC-4712-89F6-36AC4165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4E9D5-0409-4AC9-9B44-0C822D79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C9BD7-C8F7-46D3-9E9C-657685A1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752AC-94A7-468A-A8EE-8173461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A8171-32D4-4DB2-A0CC-FDFEA81B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B6F63-2A31-4C52-BE77-315CCE94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03BA-9B6A-4B64-960C-CB112E35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357A0-CA12-49AD-893F-248AD724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5A99C-DF5B-49E9-978C-5456A54E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ADB-1A98-481A-93A5-FD3D63C2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FD2E0-D27F-44DE-8C78-F154781E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B26F7-A8DE-45E8-9D00-EA8A8B0F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C9430-854F-4B45-8CC7-B877B4F8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2F954-067C-47EE-AEAD-6FFB071E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A3A65-ED25-4A9F-B432-12F70197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23E41-51B6-4994-8159-8D74CEED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8EC94-5578-4200-9DE2-E67012FF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349A-D27C-4A6B-B2FD-2CD00D2C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CFB93-5539-45AE-8B58-F33BB7F9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5ABBE-B4FC-49CF-B094-2E20D4DB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578-0662-4772-85AA-9420A86A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35655-78FF-4292-849D-3E99AE46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2DFBB-6BEA-419C-B1EB-D2C097DA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AEF7C-09EA-412B-BFB3-66FA026A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A5471-11DB-480F-BFD2-87D60694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37D55-3709-4849-927C-446BAD7D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3865C-7667-4A0E-8EE4-F737A755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2318B-F8EF-42A3-9571-FB26E39A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F0EE3-241D-4548-A7F0-16CD7EA2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2EF7E-6B25-4E11-8C50-432074A6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8C574-0E9B-482D-BF91-CE6C40E7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8D5-2B02-494C-9E73-A4690DA6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467A5-EE39-4017-99FF-22D6BD8D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E6FED-F942-413E-AF89-80A7FD2F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7DF39-C3D8-4497-B179-6C4A1D94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765B4-F729-470C-AD14-B65E1E96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ACF9F-A9BB-46F0-BF57-8BDF2337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7A77B-B31B-4CD3-944B-C5081806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F1FC9-799E-48CF-ADB8-5B55F69E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D3255-ACC7-4D2C-A9D2-20FA6477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DB198-6AC6-46F0-933F-68EE88BC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19DA3-3442-4209-AB37-0E1C2058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C72-63E8-41E1-B57B-D1A1F56B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952B6-5026-4C40-B9C5-68574BE6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13E91-0089-493A-B571-A5ACD18F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7C065-40F9-4E59-8D79-15ACC125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AEE0D-73AD-4453-9D5B-F253B250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0C9D0-F377-4117-BC80-57650C81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6F26B-AFAA-489D-BD8A-22055759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7AE5F-D89A-4931-808D-72E0E5F9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DBCB7-E484-41CB-B4DE-1E68AE1A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A24E4-508A-41B0-85EB-021F8221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757E5-F351-45D6-923C-BB61F904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449-9A22-4E91-A2CD-162BB118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2824D-0656-4639-8374-0CD482FE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42BDD-BFE4-4865-891A-5E050498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8B0A5-CE9E-4F98-BA78-CEFE29CA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99EB7-901B-4B49-A56F-E80B2A21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CC698-87C5-498D-A7F4-A5E9A485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A1C40-FF4B-416D-85BC-88B00724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CD741-5692-49CE-AFDD-01333454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6684D-7688-4D08-AC07-5953FD7D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D9080-2248-4E34-9D87-B95F3832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2548B-A864-4C0A-8E52-CB21957C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0FB76-CFCF-4A6B-BC73-0BCA20F767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E3553-B577-4985-A746-AF46792653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8C553-0DCC-42C2-A6DB-33D47A12F5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D2B51-4666-43BD-804C-58B40BE9D9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DEE2E-FEF9-47E4-8CFD-FE8BB6BEA0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ADBD1-A483-408C-9729-1E0F575E05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2DDD9-CF2A-4A06-88C9-3A6907C4EA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7CA8B-FAFB-4174-A3B7-1DC6202541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696E1-ED1A-48D9-BA3A-600A23BD89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FB89A-F8EB-4C0B-91D2-EF7D90CB15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050D7-82A6-4CE8-B623-A65632E334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4C94F-A902-4B32-860E-7394FF03AB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9EE66-8EF7-4C06-A7CF-FCC5C4E0C9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4FE38-7402-4A94-BC07-D286B5A8C4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B36F2-9066-4C80-9CC5-40F67D99A2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05A90-F683-41DB-8B84-43881AC39A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75587-64AE-4064-80F2-B150EC413A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292EE-5C1A-4918-B5B0-B7FC9DAAD2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-192240"/>
            <a:ext cx="1036332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د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914040" y="767880"/>
            <a:ext cx="103633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 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انواع روشهای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مراحل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عامل بها و مدیریت بها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تولی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اولیه و بهای تبدیل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7" name="AUD-20200409-WA0012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62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040" y="209520"/>
            <a:ext cx="1036332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س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914040" y="1152360"/>
            <a:ext cx="1036332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طبقه بندی بها از دیدگاههای مختلف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ر مبنای قابلیت رهگیر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عوامل موثر بر طبقه بندی بها به مستقیم و غیر مستقی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ها بر مبنای رفت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7" name="21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829" fill="hold"/>
                                        <p:tgtEl>
                                          <p:spTgt spid="8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18840"/>
            <a:ext cx="10363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انواع روشهای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914040" y="1252440"/>
            <a:ext cx="103633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هر دو سیستم بهایابی سفارش کارو مرحله ای به سه روش زیر قابل اجرا می باشند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0" name="Diagram 3" descr=""/>
          <p:cNvPicPr/>
          <p:nvPr/>
        </p:nvPicPr>
        <p:blipFill>
          <a:blip r:embed="rId1"/>
          <a:stretch/>
        </p:blipFill>
        <p:spPr>
          <a:xfrm>
            <a:off x="639720" y="2554200"/>
            <a:ext cx="1749600" cy="3024360"/>
          </a:xfrm>
          <a:prstGeom prst="rect">
            <a:avLst/>
          </a:prstGeom>
          <a:ln w="0">
            <a:noFill/>
          </a:ln>
        </p:spPr>
      </p:pic>
      <p:sp>
        <p:nvSpPr>
          <p:cNvPr id="781" name="Right Arrow 4"/>
          <p:cNvSpPr/>
          <p:nvPr/>
        </p:nvSpPr>
        <p:spPr>
          <a:xfrm>
            <a:off x="2295360" y="3236760"/>
            <a:ext cx="712800" cy="18288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Right Arrow 6"/>
          <p:cNvSpPr/>
          <p:nvPr/>
        </p:nvSpPr>
        <p:spPr>
          <a:xfrm>
            <a:off x="2303640" y="3973680"/>
            <a:ext cx="712440" cy="182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Right Arrow 7"/>
          <p:cNvSpPr/>
          <p:nvPr/>
        </p:nvSpPr>
        <p:spPr>
          <a:xfrm>
            <a:off x="2295360" y="4734000"/>
            <a:ext cx="712800" cy="1825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Oval 8"/>
          <p:cNvSpPr/>
          <p:nvPr/>
        </p:nvSpPr>
        <p:spPr>
          <a:xfrm>
            <a:off x="3311640" y="2276640"/>
            <a:ext cx="3857400" cy="11430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 سربار همگی واقع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Oval 9"/>
          <p:cNvSpPr/>
          <p:nvPr/>
        </p:nvSpPr>
        <p:spPr>
          <a:xfrm>
            <a:off x="3216240" y="3478320"/>
            <a:ext cx="4191120" cy="11062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اقعی بوده اما اطلاعات سربار برآوردی م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Oval 10"/>
          <p:cNvSpPr/>
          <p:nvPr/>
        </p:nvSpPr>
        <p:spPr>
          <a:xfrm>
            <a:off x="3016080" y="4584600"/>
            <a:ext cx="4761000" cy="10540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قبل از شروع دوره مالی اطلاعات مربوط به مواد و دستمزد و سربار پیش بینی شده و در طی دوره ملاک عمل قرار می گیر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w Cen M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7" name="AUD-20200409-WA0009.m4a" descr=""/>
          <p:cNvPicPr/>
          <p:nvPr/>
        </p:nvPicPr>
        <p:blipFill>
          <a:blip r:embed="rId2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2957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247680"/>
            <a:ext cx="103633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مراحل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914040" y="1123560"/>
            <a:ext cx="1036332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هر سیستم بهایابی برای محاسبه بها بایستی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مرحله اساسی را پشت سر گذاشت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انباشت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تخصیص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انباشت بها اطلاعات مربوط به بها از نظر ماهیت آنها در جایی به نام انباره های بها یا مخازن بها جمع می شوند به عنوان مثال انباره حقوق و دستمزد یا انباره مواد .....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خصیص بایستی اطلاعات جمع آوری شده در مرحله قبل بر اساس یک مبنای مناسب به موضوع بهایابی ، اختصاص داده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نواع تخصیص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رهگیر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تسه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0" name="AUD-20200409-WA0006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129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040" y="91800"/>
            <a:ext cx="103633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نحوه تخصیص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914040" y="960120"/>
            <a:ext cx="10363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نکته : تخصیص بهای عوامل مستقیم از طریق رهگیری و بهای عوامل غیر مستقیم از طریق تسهیم صورت می گیر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رای درک بهتر موضوع شکل زیر را در نظر بگیری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Round Single Corner Rectangle 5"/>
          <p:cNvSpPr/>
          <p:nvPr/>
        </p:nvSpPr>
        <p:spPr>
          <a:xfrm>
            <a:off x="347760" y="2185920"/>
            <a:ext cx="1288800" cy="1462320"/>
          </a:xfrm>
          <a:prstGeom prst="pie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موضوع بهایا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صندلی چو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Oval 6"/>
          <p:cNvSpPr/>
          <p:nvPr/>
        </p:nvSpPr>
        <p:spPr>
          <a:xfrm>
            <a:off x="5446800" y="2084400"/>
            <a:ext cx="1755720" cy="8604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Oval 7"/>
          <p:cNvSpPr/>
          <p:nvPr/>
        </p:nvSpPr>
        <p:spPr>
          <a:xfrm>
            <a:off x="5410080" y="2951280"/>
            <a:ext cx="1755720" cy="8586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96" name="Straight Arrow Connector 9"/>
          <p:cNvCxnSpPr>
            <a:stCxn id="794" idx="2"/>
          </p:cNvCxnSpPr>
          <p:nvPr/>
        </p:nvCxnSpPr>
        <p:spPr>
          <a:xfrm flipH="1">
            <a:off x="1636200" y="251424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7" name="TextBox 10" descr=""/>
          <p:cNvPicPr/>
          <p:nvPr/>
        </p:nvPicPr>
        <p:blipFill>
          <a:blip r:embed="rId1"/>
          <a:stretch/>
        </p:blipFill>
        <p:spPr>
          <a:xfrm>
            <a:off x="2955960" y="2084400"/>
            <a:ext cx="2768400" cy="372960"/>
          </a:xfrm>
          <a:prstGeom prst="rect">
            <a:avLst/>
          </a:prstGeom>
          <a:ln w="0">
            <a:noFill/>
          </a:ln>
        </p:spPr>
      </p:pic>
      <p:cxnSp>
        <p:nvCxnSpPr>
          <p:cNvPr id="798" name="Straight Arrow Connector 12"/>
          <p:cNvCxnSpPr/>
          <p:nvPr/>
        </p:nvCxnSpPr>
        <p:spPr>
          <a:xfrm flipH="1">
            <a:off x="1636200" y="343512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9" name="TextBox 13" descr=""/>
          <p:cNvPicPr/>
          <p:nvPr/>
        </p:nvPicPr>
        <p:blipFill>
          <a:blip r:embed="rId2"/>
          <a:stretch/>
        </p:blipFill>
        <p:spPr>
          <a:xfrm>
            <a:off x="2955960" y="3035160"/>
            <a:ext cx="2768400" cy="36684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14"/>
          <p:cNvSpPr/>
          <p:nvPr/>
        </p:nvSpPr>
        <p:spPr>
          <a:xfrm>
            <a:off x="8056440" y="23223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چو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8056440" y="31161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ر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02" name="Straight Arrow Connector 17"/>
          <p:cNvCxnSpPr>
            <a:stCxn id="800" idx="1"/>
            <a:endCxn id="794" idx="6"/>
          </p:cNvCxnSpPr>
          <p:nvPr/>
        </p:nvCxnSpPr>
        <p:spPr>
          <a:xfrm flipH="1" flipV="1">
            <a:off x="7202160" y="2513880"/>
            <a:ext cx="85464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cxnSp>
        <p:nvCxnSpPr>
          <p:cNvPr id="803" name="Straight Arrow Connector 19"/>
          <p:cNvCxnSpPr/>
          <p:nvPr/>
        </p:nvCxnSpPr>
        <p:spPr>
          <a:xfrm flipH="1" flipV="1">
            <a:off x="7184520" y="3318840"/>
            <a:ext cx="85320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pic>
        <p:nvPicPr>
          <p:cNvPr id="804" name="نحوه تخصیص.3gp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9480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040" y="118800"/>
            <a:ext cx="1036332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عامل بها و مدیریت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914040" y="914040"/>
            <a:ext cx="10363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نظور از عامل بها که محرک بها نیز نامیده می شود عاملی است که بر بهای کل تاثیر می گذارد . یعنی تغییر در میزان آن باعث تغییر در جمع مبلغ بهای مربوز به موضوع بهایابی مورد نظر می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عامل بها می تواند یک پارامتر مالی مانند بهای دستمزد مستقیم و یا یک پارامتر غیر مالی مانندتعداد محصولات تولید شده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دیریت بها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شرکتها برای کاهش قیمت فروش ناگزیر هستند که بهای تمام شده خود را کنترل کنند . یعنی تنها به فعالیتهایی بپردازند که باعث ایجاد ارزش در دید مشتری می شوند و این فعالیتها را به گونه ای کارا و تپر بخش انجام دهند . و یا به عبارتی مدیریت بها عبارت است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جموعه اقدامات مدیریت که ضمن انجام تاشهای مستمر برای کنرل و کاهش بهای تمام شده محصول به منظور جلب رضایت مشتریان به عمل می آ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7" name="AUD-20200409-WA0013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748" fill="hold"/>
                                        <p:tgtEl>
                                          <p:spTgt spid="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040" y="99720"/>
            <a:ext cx="1036332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تولید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914040" y="1033560"/>
            <a:ext cx="103633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حسابداری بهای تمام شده برای محاسبه بهای تولید از اصطلاحات خاصی استفاده می شود که این اصطلاحات عبارتند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- مواد مستقیم :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ه مواد اولیه ای گفته می شود که در تولید محصول نقش مستقیم داشته و به عنوان بخشی از کالای ساخته شده محسوب می گردد و می توان بهای آن را به آسانی و به طور مستقیم به کالای ساخته شده اختصاص داد. مانند بهای چوب در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 دارای سه ویژگی زیر می باشن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میزان مصرف آنها با میزان تولید رابطه مستقیم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در مقایسه با ارزش کا کالای ساخته شده ارزش اقتصادی قابل ملاحظه ای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ج : بخشی از شکل فیزیکی کالای ساخته شده را تشکیل می دهد و معمولا در محصول ساخه شده قابل رویت و قابل لمس می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ر ساخت محصولات ممکن است مواد دیگری نیز مصرف شوند که جزئی و کم اهمیت باشند و به آسانی نتوان بهای آن را به کالاسی ساخته شده اختصاص داد به اینگونه مواد اصطلاحا مواد غیر مستقیم گفته می شود اینگونه مواد معمولا ارزش اقتصادی بالایی ندارند و به عنوان بخشی از سربار محسوب می شوند . مانند چسب در تولید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0" name="اسلاید17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1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1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6351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040" y="-12348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914400" y="361800"/>
            <a:ext cx="102679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دستمزد مستقیم : عبارت است از دستمزد کارگرانی که در تولید محصول نقش مستقیم داشته و در اثر کا آنها مواد اولیه تغییر شکل یافته و تبدیل به کالای ساخته شده می شود . و می توان بهای آن را به سهولت و به طور مستقیم به کالای ساخته شده اختصاص داد مانند دستمزد کارگران بخش مونتاژ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ستمزد آن دسته از کارگرانی که مستقیماً در تولید نقش ندارند دستمزد غیر مستقیم نامیده شده و جزء سربار محسوب می شوند مانند دستمزد نگهبان شرکت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سربار ساخت :آن بخش از بهای ساخت که نمی توان آن را به آسانی به کالای ساخته شده اختصاص داد اصطلاحا سربار ساخت محسوب می شوند به جز مواد و دستمزد غیر مستقیم برخی از بها ها مانند تعمیر ماشین آلات ، استهلاک ، آب و برق مصرفی نیز بخشی از سربار محسوب می شوند . نمودار زیر عوامل تشکیل دهنده بهای محصول را نشان می ده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1790640" y="3695760"/>
            <a:ext cx="78120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3743280" y="4095720"/>
            <a:ext cx="1790640" cy="5047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ایر هزینه های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6353280" y="3695760"/>
            <a:ext cx="78084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1276200" y="5400720"/>
            <a:ext cx="1257480" cy="59040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848040" y="5467320"/>
            <a:ext cx="151452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ربار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6353280" y="5467320"/>
            <a:ext cx="1209600" cy="6001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19" name="Straight Arrow Connector 10"/>
          <p:cNvCxnSpPr>
            <a:stCxn id="813" idx="3"/>
          </p:cNvCxnSpPr>
          <p:nvPr/>
        </p:nvCxnSpPr>
        <p:spPr>
          <a:xfrm>
            <a:off x="2571840" y="3895560"/>
            <a:ext cx="1257840" cy="157248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0" name="Straight Arrow Connector 16"/>
          <p:cNvCxnSpPr/>
          <p:nvPr/>
        </p:nvCxnSpPr>
        <p:spPr>
          <a:xfrm flipH="1">
            <a:off x="5126760" y="4127040"/>
            <a:ext cx="1226520" cy="138996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1" name="Straight Arrow Connector 18"/>
          <p:cNvCxnSpPr>
            <a:endCxn id="817" idx="0"/>
          </p:cNvCxnSpPr>
          <p:nvPr/>
        </p:nvCxnSpPr>
        <p:spPr>
          <a:xfrm>
            <a:off x="4605120" y="4700520"/>
            <a:ext cx="1080" cy="76752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2" name="TextBox 25"/>
          <p:cNvSpPr/>
          <p:nvPr/>
        </p:nvSpPr>
        <p:spPr>
          <a:xfrm rot="3142800">
            <a:off x="2476800" y="4118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3" name="Straight Arrow Connector 27"/>
          <p:cNvCxnSpPr/>
          <p:nvPr/>
        </p:nvCxnSpPr>
        <p:spPr>
          <a:xfrm flipH="1">
            <a:off x="2074320" y="4171680"/>
            <a:ext cx="43560" cy="12294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4" name="TextBox 32"/>
          <p:cNvSpPr/>
          <p:nvPr/>
        </p:nvSpPr>
        <p:spPr>
          <a:xfrm rot="16200000">
            <a:off x="1575000" y="4460040"/>
            <a:ext cx="7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TextBox 33"/>
          <p:cNvSpPr/>
          <p:nvPr/>
        </p:nvSpPr>
        <p:spPr>
          <a:xfrm rot="18877800">
            <a:off x="5598000" y="4415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TextBox 34"/>
          <p:cNvSpPr/>
          <p:nvPr/>
        </p:nvSpPr>
        <p:spPr>
          <a:xfrm rot="16200000">
            <a:off x="6895080" y="455184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7" name="Straight Arrow Connector 35"/>
          <p:cNvCxnSpPr>
            <a:endCxn id="818" idx="0"/>
          </p:cNvCxnSpPr>
          <p:nvPr/>
        </p:nvCxnSpPr>
        <p:spPr>
          <a:xfrm>
            <a:off x="6924240" y="4172040"/>
            <a:ext cx="34200" cy="12960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828" name="18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10363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اولیه و بهای تبدیل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914040" y="1066320"/>
            <a:ext cx="103633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گاهی اوقات در حسابداری بهای تمام شده عناصر اصلی بها با هم ترکیب می شوند و در عبارت زیر را بوجود می آورند 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بهای اولیه و بهای تبدیل: منظور از بهای اولیه اقلامی از بهای تمام شده می باشند که مستقیما در امر ولید دخالت دارند و منظور از بهایتبدیل اقلامی ا بهای تمام شده می باشند که در تبدیل مواد اولیه به محصول ایفای نقش می نماین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بهای اولیه و بهای تبدیل در یک جزء مشترک هستند و آن هم دستمزد مستقیم است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مواد مستقیم+ دستمزد مستقیم = بهای اولیه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سربار ساخت+ دستمزد مستقیم = بهای تبدیل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ثال : فرض کنید در شرکت جمشید بهای اولیه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72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و بهای تبدیل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60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است . در صورتی که سربار براساس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5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% دستمزد مستقیم جذب تولید شود بهای مواد مستقیم و دستمزد مسقیم و سربار ساخت را محاسبه نمایی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حل :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Z 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سربار ساخت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Y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دستمز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X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1" name="19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2629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040" y="-14760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3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1839680" cy="6858000"/>
          </a:xfrm>
          <a:prstGeom prst="rect">
            <a:avLst/>
          </a:prstGeom>
          <a:ln w="0">
            <a:noFill/>
          </a:ln>
        </p:spPr>
      </p:pic>
      <p:pic>
        <p:nvPicPr>
          <p:cNvPr id="834" name="20.3gp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9192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9T17:50:58Z</dcterms:created>
  <dc:creator>Windows User</dc:creator>
  <dc:description/>
  <dc:language>en-US</dc:language>
  <cp:lastModifiedBy>Windows User</cp:lastModifiedBy>
  <dcterms:modified xsi:type="dcterms:W3CDTF">2020-04-09T17:56:28Z</dcterms:modified>
  <cp:revision>2</cp:revision>
  <dc:subject/>
  <dc:title>PowerPoint Presentation</dc:title>
</cp:coreProperties>
</file>