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0573B-7278-4EDF-B3D1-15D59DBF4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1C910-4818-488B-BC90-21CAB5AD1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5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A89508-C333-4B33-9EE2-582813100C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32FE3D-0707-49B9-84B1-423D08CAA6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607E62-BFE8-4FFD-A9A7-95C4DDDF7E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0C5074-9B26-499F-B233-EE6178EB6F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BE1E5B-DE7D-45FC-8404-8C5548ABC7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E2C050-3C6E-4904-B3F5-F1D315F32C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64AF4A-E5D7-4715-B7DB-8077B14512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05D493C-6D61-4069-8974-92A3204F92D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8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D10DB2B-9FB8-4F0C-B793-09F34B2DC43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4C8B7BE-5FD2-4F92-AA38-AA43F72C24C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7A82E-3DF6-4058-9BAB-3FF3BBDDA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5BAB332-72B3-47ED-A372-6B234EB2FF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3993824-F351-49F8-A1A8-79519A7923B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477D16F-8B45-427D-B73B-D88BD921D46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0C7BD75-92CE-4653-88C9-73C46294F52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D433B43-C46C-4C9F-A91F-E2A8F81EE1D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2F86805-97CB-438B-9BDB-51985D6B550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04A1756-DBF0-47ED-A12A-802BFA9A047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E64E4C4-3AED-446A-A064-0EF3A252A6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CB1D6EC-9581-490E-BFFE-AB2E32719BE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C78E197-0924-4972-8F72-5BE1A9FCFCC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543BFD-BE8B-4E77-80B4-662C3F550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2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4A9D5CF-9DBB-4B59-83CC-E30EF3EEE1C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B014CA1-77AD-426C-B030-9AED9439351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744EB01-E140-45C0-A7A6-B236FEE8E97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5338544-774F-45B5-857B-9A6242A4F63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1F4CA44-26DF-4152-AE12-1430F75C0CB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CE5C531-C50D-4931-B151-2651CB5ECA7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EC0D597-55CF-497A-9668-853A0E423CF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5FBDAB0-26B7-4DBC-9FDD-23D3E99CFB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2C2C716-F871-4FC8-BDE2-5C9C887AB0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9435D68-1A9E-4EBD-926A-18A0F8B2CC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8CA8A6-600F-4945-BD37-0E23B42E8E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AA2931E-5760-4125-8193-F24A295A936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A678FEA-38EF-41AA-9322-378AF2B1E17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DAE603F-8D78-4F19-816E-DA41CE0C47B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825C431-3BF4-45FD-B726-CE1E362C4FE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96EF99F-5C82-45C6-961E-687A91C16AB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A1CB960-9C24-4E81-87BD-DFCAEB92B79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8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E31C7B3-7F5D-4C61-A6E4-7FD15A7DBBE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00C1423-BEDB-4A24-8D4D-FC7F2348D4D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AD27FCE-D0EF-404D-BE01-FC3F70208C4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EBD662E-0E49-46FC-8450-E2C240EE239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4B006-B946-4FBF-B311-FF271B047A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B3AC5C4-31FE-4E4F-AEC1-DC2D649D6CE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2CAA6DC-51DC-4A07-9B64-2F3A46A8957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B465933-E191-4CC4-B895-7C89A8F8517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7CDE150-128B-4B73-8D05-86B31A2DC7B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9135270-158E-4252-BB39-D888BF74AAE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7CB3D0D-958C-401B-A98B-3CA83E6EC9F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8D7556B-96E6-475D-B738-30D6F43B62D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0CEBA36-A04F-449D-8431-87737E93D69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2DD1B82-7B2C-42B4-A8D1-22D439B7B48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3664925-EC64-42EA-8D37-6059E4696F7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8C5EFF-0C23-467B-8D7F-886B46619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E9BDE6A-9541-468B-B563-94F67CE4AFD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3A6E761-2B5F-4819-8E04-1A03C9B9666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C457128-B657-4CD7-824A-15F1310458A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A084DF9-6D03-431D-89D1-27137F56E0C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D5F7DC1-1173-424B-9E1D-FE02AFD84F7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098F6BD-1823-43C4-A7CD-E312A38C2E9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5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C81EF08-DA56-4F84-AC33-54F4FD36712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34C3F05-7048-4AFC-B66D-5C4FF4A008D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6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5E98C30-C26F-4A48-BDA8-84CAE043578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242D074-5FD5-4E45-97BB-B4908CB52F9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244C07-7E6C-44D5-8978-23F0811DBB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262C2ED-BEEC-440C-BA49-5D1FF0E8A4D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96B9EA3-C7BF-4935-8FC5-53F7683A09D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69958D0-7DE1-4A29-BBF5-A0BE2787B61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A038212-7C8D-4465-B6CD-90F9B267FF7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1DACFC7-C09C-430C-A98F-2731DCEC182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B4AC095-A522-402A-99EA-4519346AC80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3DD7B98-73E4-49FE-95AB-AA08817E6AB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5D96F87-7D38-4DF1-AE12-B0038D7ADA0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F141E0E-F87A-42C8-BB66-9595671BF7B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849D91E-B5B0-408E-B5C6-F55A52D4604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A867DC-57B5-4A1A-ABEB-9D90FDF06E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3772896-535C-4289-8622-414BF59BAEA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E699833-5A60-45FC-B405-821D64231E7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6A49955-26EC-4740-8968-006D011DD82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B3620EC-5845-430D-B3A3-40C2F76D90F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49C1D18-042A-4410-9D2A-C091BCBF129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C301309-83E7-4FE5-AF45-701363403F6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4E9B31F-B5C6-49E1-ADC7-CACC811C4DF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7F32303-23CA-43AF-9FB8-6ADAED21F41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757616C-FFFB-4E49-BD83-F56CFEA43B8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35E904E-7939-4F1B-B5A7-BEE8B530D75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336FC0-AA81-4B8C-B812-F481FA388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4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47686FD-FC68-426F-98B3-4074D28D748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1A09CFF-4081-4006-91C3-5E5154356D1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51D2EEB-2303-4494-A732-0056618E42C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C352F44-31A1-4A95-B9F4-7905D4BB39F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8AD2A9F-10EF-4F87-BE4A-12DF1DC9246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6FEC477-AA24-49E9-A8C4-A7018001F96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080B373-9262-41D2-AC00-9EC97192B3F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E8EE65D-FA64-450F-B5B4-855A9C1BFCC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1EBE0EA-30A9-46F1-A746-4D9C3F49E22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FFF2264-8EDC-46BA-9F50-416BF778800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B20C8-C7FA-4EB5-BB68-A9C207FEC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D61B7A7-D458-4449-BFA2-F6D8A54ABBD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79B7804-0671-414F-AB25-BF9A212ACDF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8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8CBB32C-AE56-4311-9541-CE19158EC32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A630A34-D576-4D3E-8A45-AEB767C4430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21EC59D-72EE-47FB-8FB5-78CA74D74A9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5AF1E63-C508-416C-B768-543C57A12F0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3A101BE-3D0D-4423-BD94-F856D2DB841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830091C-D130-4DF0-9E1C-9CD53A2A48B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C51FF61-4057-41D0-B004-3ECD2CE40ED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5B6D460-7BB0-4C80-A818-B6BCC8071DD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74618-1F3E-4438-BF0B-559924A4B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BBB0A-55C9-483A-B13F-2776B7BD7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2057163-A87B-4531-9384-6549EEAAE29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7B3EC59-140A-4652-83FA-250490E8891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CD618D9-7C80-4EFD-9425-552DFC7F12D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5494C0D-125F-442F-AC42-74A609FF95A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335D697-43BA-40BC-8299-5626DFD3155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78D7A84-0AD6-4531-B26B-15B484BD8D8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53915E8-D9A0-4F55-BE20-A77B723964D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82F0F68-8470-41A5-AEC8-83BF3350E58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4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6CE5B00-33F3-4180-8532-8F86DCFF12B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4C3C45F-EBD0-446B-9FBE-13C52003EF7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D750E-8011-4CBB-AD49-7B2F33117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47C7021-DFE9-405E-A7EF-B96553D0BA4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2F6E101-9208-499E-8DBA-2BA20CC1FD3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0A07E6B-4BCC-48E1-9DC7-23911877619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B79D9F4-CD5E-4941-8309-6189783E7FA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B57BA84-716A-4679-9DEF-DAD80199AB5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C782D419-1289-4BC4-B69E-651C0FA38648}"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9C75AAD-3AC5-425D-ADB8-3DE8F17A1244}"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4417A7-A697-42DC-A27D-51FDB90F99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4D11EE-9F52-4733-95DC-0D6C1EB1E9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4386E3-5837-484E-BE96-E5AA4DC4BD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66B96E-CC74-41DA-B325-30D97D0AF2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3"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E41FFE-5145-4C90-AF69-A149ABB397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5"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679AD5-0E1D-4728-8E83-1330B679CB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3DD318-F0F7-46F5-957E-D7C040DAA3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70C43A-3C84-4BA4-BB28-E101B6BE45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8CE34-3548-4014-83C9-7D5118FAA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446F94-8A80-4BDC-8255-7317517BD8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C80D2D-CEEB-4FA3-8C3D-F6B5844A1D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8"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795ACB-98B9-4787-8A52-3B238EA25E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2"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38F051-D5B5-4198-8CF7-4FF9944741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4"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5"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77F3FA-6E6D-4CF3-AA7E-7882C008F3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00FEBF-2273-4061-9AA5-18BD4ABCBA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22"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3"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4"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583A37-701A-4696-8933-3B90D54F13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602404-0469-4E92-820D-FD98C986E3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6"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FC9017-6927-4AE5-AB95-1F60A4AB7A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8"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C379DF-1AB2-4BE5-8F19-A55DE3FACE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F01DE-3C36-4F61-80C6-D54BA834D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A200CC-2C5F-4854-9D99-33D3F38E6E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0AA024-75E2-4FF9-B4DD-96480D1E0A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989D1A-FE93-4D6C-8E55-3AF111BE1B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FBB713-A7C1-4AB3-8C27-37A1F52C5D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F33F8D-0CBF-4557-A67E-7737D8B7E8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CA3CFC-324C-4EF3-8C57-B62015EABA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7"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64FABB-D44D-440F-9F79-BA588FE832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B6A991-CCEF-4868-8ED5-E1484A4DC4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5"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9C66F4-A271-4EB4-8AAD-C35AA3B5AE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8FD3C1-4F8E-4B6B-B150-1DE62CA4F3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337C2-1702-4549-B5A1-66D88CB6F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79"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3CC60A-04E4-4EAC-9E75-EC72FC98BE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1"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B20808-E0E0-4B42-BEC8-6CEC21E6D7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92FFF8-F649-493A-B38B-F5067CDA35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366F73-D6C5-4383-8772-4497C8A890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57BC27-C397-4F19-B337-0609E5439C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205C77-7BA5-4EAB-9087-8FF6C3955D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4"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19FF73-325D-4BA8-85C4-FDD8C3419E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8"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945756-147F-4774-8B7F-404AC54ADA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0"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1"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06B2AF-6F5E-41E3-B42D-0BB93DE699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6"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2BC9F2-C965-43DC-9E6C-ADE361AB3B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E24FA-836E-4E7B-8179-59B9D7DCA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8"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3"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7FFB92-D02C-4A5F-BB53-883DF4BDAF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E6CD25-7717-46AF-946D-03EF5637B6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2"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A5D002-C6AC-46FB-8F8E-277A62E403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4"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CFB059-E9C4-4111-B6D2-9E0A5B0347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DDD4FA-AD69-4751-B631-FE36D4C4ED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DCF8C4-BFA0-4562-91BD-2609E0C78F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A79CAB-AD92-442E-9203-6A3BE118D0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3132D6-CDB5-46BB-953D-3A474AD4B8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7"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55B8AD-B2EA-47A8-933F-F5DDA1918B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1"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2E8A76-466D-4AF4-B2C9-685D3F161A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5A37B-1F7D-46CF-BF2F-82C76C2FD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3"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4"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D47864-E875-4E6D-B5F6-B83DF099F4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9"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8291F5-4E58-41F8-85C3-7631981F7F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51"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5"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6"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2BE05C-7FE9-4301-9000-5AB70DB5A2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D989A5-2D72-4A90-9D37-A374F60AA1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E87172-A60F-4343-9952-982D751706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C07E30-CA04-4982-BA18-A2CC59BE7C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F5127E-FD9F-4317-9074-A87CF5792D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B971A2-EEEB-48EE-AF07-4DED8AADE8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84614E-4771-41BC-8C31-F9DBBACCE5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9ABD1C-94E2-4E9C-937A-F379BE4A31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9E0EE-DA1D-41BC-A6E5-7C66378C7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750679-2CC6-4068-B43F-56BA390685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D25928-BF2E-4C38-A946-170A3FDAAD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4235AC-B782-43CF-8871-1DFBEFCE48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EDF66A-D2B3-4A54-BDFE-73CC4D4460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9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06D067-EEDB-4FDC-BF0F-DE726B953D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758B57-2F1B-4A2F-91D7-3EE82FF4F2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0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4E9A2A-594C-4DA1-853E-706671DD72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371890-9C2C-4605-BFB2-16E3E9137F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940710-21FD-44AD-8869-2B4139AA26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2D5ADF-4465-4D26-89D6-FB65D9C518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E05E0-7A50-4026-8126-94DC1C1A7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CB25B6-D041-4B68-97ED-887BA15BF4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9EDE09-5CF7-4FA1-A09D-5486BBF2D3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D383EA-550E-4200-8017-687083EED2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77FB7F-C1A0-4445-8D08-FA505C98E8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01FDCE-6DEB-4655-B771-157E83FEF3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1911F6-3708-4B8F-BC1F-7EE971D0B0B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85903C-94D7-45B5-9747-58D751911AE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E606737-2C8E-42B8-B569-44FD3470B44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460307-C179-4394-A24F-202DCCAF91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52BB77-8E86-4B06-A320-040726FC3BC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0" name="Picture 2" descr="\\DROBO-FS\QuickDrops\JB\PPTX NG\Droplets\LightingOverlay.png"/>
          <p:cNvPicPr/>
          <p:nvPr/>
        </p:nvPicPr>
        <p:blipFill>
          <a:blip r:embed="rId2"/>
          <a:stretch/>
        </p:blipFill>
        <p:spPr>
          <a:xfrm>
            <a:off x="0" y="0"/>
            <a:ext cx="12192120" cy="6858000"/>
          </a:xfrm>
          <a:prstGeom prst="rect">
            <a:avLst/>
          </a:prstGeom>
          <a:ln w="0">
            <a:noFill/>
          </a:ln>
        </p:spPr>
      </p:pic>
      <p:sp>
        <p:nvSpPr>
          <p:cNvPr id="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 name="PlaceHolder 3"/>
          <p:cNvSpPr>
            <a:spLocks noGrp="1"/>
          </p:cNvSpPr>
          <p:nvPr>
            <p:ph type="dt" idx="1"/>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 name="PlaceHolder 5"/>
          <p:cNvSpPr>
            <a:spLocks noGrp="1"/>
          </p:cNvSpPr>
          <p:nvPr>
            <p:ph type="sldNum" idx="3"/>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387899-2332-4BF8-9C02-5319B921928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8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87" name="Picture 7" descr="Droplets-HD-Content-R1d.png"/>
          <p:cNvPicPr/>
          <p:nvPr/>
        </p:nvPicPr>
        <p:blipFill>
          <a:blip r:embed="rId3"/>
          <a:stretch/>
        </p:blipFill>
        <p:spPr>
          <a:xfrm>
            <a:off x="0" y="0"/>
            <a:ext cx="12192120" cy="6858000"/>
          </a:xfrm>
          <a:prstGeom prst="rect">
            <a:avLst/>
          </a:prstGeom>
          <a:ln w="0">
            <a:noFill/>
          </a:ln>
        </p:spPr>
      </p:pic>
      <p:sp>
        <p:nvSpPr>
          <p:cNvPr id="3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8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90" name="PlaceHolder 3"/>
          <p:cNvSpPr>
            <a:spLocks noGrp="1"/>
          </p:cNvSpPr>
          <p:nvPr>
            <p:ph type="dt" idx="28"/>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1" name="PlaceHolder 4"/>
          <p:cNvSpPr>
            <a:spLocks noGrp="1"/>
          </p:cNvSpPr>
          <p:nvPr>
            <p:ph type="ftr" idx="29"/>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92" name="PlaceHolder 5"/>
          <p:cNvSpPr>
            <a:spLocks noGrp="1"/>
          </p:cNvSpPr>
          <p:nvPr>
            <p:ph type="sldNum" idx="30"/>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5E7C8F-46E4-41A8-9452-36F1C359198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0" name="Picture 7" descr="Droplets-HD-Content-R1d.png"/>
          <p:cNvPicPr/>
          <p:nvPr/>
        </p:nvPicPr>
        <p:blipFill>
          <a:blip r:embed="rId3"/>
          <a:stretch/>
        </p:blipFill>
        <p:spPr>
          <a:xfrm>
            <a:off x="0" y="0"/>
            <a:ext cx="12192120" cy="6858000"/>
          </a:xfrm>
          <a:prstGeom prst="rect">
            <a:avLst/>
          </a:prstGeom>
          <a:ln w="0">
            <a:noFill/>
          </a:ln>
        </p:spPr>
      </p:pic>
      <p:sp>
        <p:nvSpPr>
          <p:cNvPr id="4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3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33" name="PlaceHolder 3"/>
          <p:cNvSpPr>
            <a:spLocks noGrp="1"/>
          </p:cNvSpPr>
          <p:nvPr>
            <p:ph type="dt" idx="31"/>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4" name="PlaceHolder 4"/>
          <p:cNvSpPr>
            <a:spLocks noGrp="1"/>
          </p:cNvSpPr>
          <p:nvPr>
            <p:ph type="ftr" idx="3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35" name="PlaceHolder 5"/>
          <p:cNvSpPr>
            <a:spLocks noGrp="1"/>
          </p:cNvSpPr>
          <p:nvPr>
            <p:ph type="sldNum" idx="33"/>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BA9520-8643-42BF-A82B-F355C322871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7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73" name="Picture 7" descr="Droplets-HD-Content-R1d.png"/>
          <p:cNvPicPr/>
          <p:nvPr/>
        </p:nvPicPr>
        <p:blipFill>
          <a:blip r:embed="rId3"/>
          <a:stretch/>
        </p:blipFill>
        <p:spPr>
          <a:xfrm>
            <a:off x="0" y="0"/>
            <a:ext cx="12192120" cy="6858000"/>
          </a:xfrm>
          <a:prstGeom prst="rect">
            <a:avLst/>
          </a:prstGeom>
          <a:ln w="0">
            <a:noFill/>
          </a:ln>
        </p:spPr>
      </p:pic>
      <p:sp>
        <p:nvSpPr>
          <p:cNvPr id="4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7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6" name="PlaceHolder 3"/>
          <p:cNvSpPr>
            <a:spLocks noGrp="1"/>
          </p:cNvSpPr>
          <p:nvPr>
            <p:ph type="dt" idx="34"/>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7" name="PlaceHolder 4"/>
          <p:cNvSpPr>
            <a:spLocks noGrp="1"/>
          </p:cNvSpPr>
          <p:nvPr>
            <p:ph type="ftr" idx="3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78" name="PlaceHolder 5"/>
          <p:cNvSpPr>
            <a:spLocks noGrp="1"/>
          </p:cNvSpPr>
          <p:nvPr>
            <p:ph type="sldNum" idx="36"/>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64E1B8-5E5B-4600-B825-FFE155FE771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1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16" name="Picture 7" descr="Droplets-HD-Content-R1d.png"/>
          <p:cNvPicPr/>
          <p:nvPr/>
        </p:nvPicPr>
        <p:blipFill>
          <a:blip r:embed="rId3"/>
          <a:stretch/>
        </p:blipFill>
        <p:spPr>
          <a:xfrm>
            <a:off x="0" y="0"/>
            <a:ext cx="12192120" cy="6858000"/>
          </a:xfrm>
          <a:prstGeom prst="rect">
            <a:avLst/>
          </a:prstGeom>
          <a:ln w="0">
            <a:noFill/>
          </a:ln>
        </p:spPr>
      </p:pic>
      <p:sp>
        <p:nvSpPr>
          <p:cNvPr id="517" name="TextBox 8"/>
          <p:cNvSpPr/>
          <p:nvPr/>
        </p:nvSpPr>
        <p:spPr>
          <a:xfrm>
            <a:off x="1001880" y="754200"/>
            <a:ext cx="60948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8" name="TextBox 9"/>
          <p:cNvSpPr/>
          <p:nvPr/>
        </p:nvSpPr>
        <p:spPr>
          <a:xfrm>
            <a:off x="10557000" y="299412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2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21" name="PlaceHolder 3"/>
          <p:cNvSpPr>
            <a:spLocks noGrp="1"/>
          </p:cNvSpPr>
          <p:nvPr>
            <p:ph type="dt" idx="37"/>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2" name="PlaceHolder 4"/>
          <p:cNvSpPr>
            <a:spLocks noGrp="1"/>
          </p:cNvSpPr>
          <p:nvPr>
            <p:ph type="ftr" idx="3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23" name="PlaceHolder 5"/>
          <p:cNvSpPr>
            <a:spLocks noGrp="1"/>
          </p:cNvSpPr>
          <p:nvPr>
            <p:ph type="sldNum" idx="39"/>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15D803-9D4B-42B8-9C22-481E528D7FF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6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61" name="Picture 7" descr="Droplets-HD-Content-R1d.png"/>
          <p:cNvPicPr/>
          <p:nvPr/>
        </p:nvPicPr>
        <p:blipFill>
          <a:blip r:embed="rId3"/>
          <a:stretch/>
        </p:blipFill>
        <p:spPr>
          <a:xfrm>
            <a:off x="0" y="0"/>
            <a:ext cx="12192120" cy="6858000"/>
          </a:xfrm>
          <a:prstGeom prst="rect">
            <a:avLst/>
          </a:prstGeom>
          <a:ln w="0">
            <a:noFill/>
          </a:ln>
        </p:spPr>
      </p:pic>
      <p:sp>
        <p:nvSpPr>
          <p:cNvPr id="5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6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64" name="PlaceHolder 3"/>
          <p:cNvSpPr>
            <a:spLocks noGrp="1"/>
          </p:cNvSpPr>
          <p:nvPr>
            <p:ph type="dt" idx="40"/>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5" name="PlaceHolder 4"/>
          <p:cNvSpPr>
            <a:spLocks noGrp="1"/>
          </p:cNvSpPr>
          <p:nvPr>
            <p:ph type="ftr" idx="4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66" name="PlaceHolder 5"/>
          <p:cNvSpPr>
            <a:spLocks noGrp="1"/>
          </p:cNvSpPr>
          <p:nvPr>
            <p:ph type="sldNum" idx="42"/>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FDF125-D0E3-455C-A452-9CCF94C2004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0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04" name="Picture 7" descr="Droplets-HD-Content-R1d.png"/>
          <p:cNvPicPr/>
          <p:nvPr/>
        </p:nvPicPr>
        <p:blipFill>
          <a:blip r:embed="rId3"/>
          <a:stretch/>
        </p:blipFill>
        <p:spPr>
          <a:xfrm>
            <a:off x="0" y="0"/>
            <a:ext cx="12192120" cy="6858000"/>
          </a:xfrm>
          <a:prstGeom prst="rect">
            <a:avLst/>
          </a:prstGeom>
          <a:ln w="0">
            <a:noFill/>
          </a:ln>
        </p:spPr>
      </p:pic>
      <p:sp>
        <p:nvSpPr>
          <p:cNvPr id="6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0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07" name="PlaceHolder 3"/>
          <p:cNvSpPr>
            <a:spLocks noGrp="1"/>
          </p:cNvSpPr>
          <p:nvPr>
            <p:ph type="dt" idx="43"/>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08" name="PlaceHolder 4"/>
          <p:cNvSpPr>
            <a:spLocks noGrp="1"/>
          </p:cNvSpPr>
          <p:nvPr>
            <p:ph type="ftr" idx="4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09" name="PlaceHolder 5"/>
          <p:cNvSpPr>
            <a:spLocks noGrp="1"/>
          </p:cNvSpPr>
          <p:nvPr>
            <p:ph type="sldNum" idx="45"/>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752C62-BC1C-4A96-85C0-72A3391FA97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4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47" name="Picture 7" descr="Droplets-HD-Content-R1d.png"/>
          <p:cNvPicPr/>
          <p:nvPr/>
        </p:nvPicPr>
        <p:blipFill>
          <a:blip r:embed="rId3"/>
          <a:stretch/>
        </p:blipFill>
        <p:spPr>
          <a:xfrm>
            <a:off x="0" y="0"/>
            <a:ext cx="12192120" cy="6858000"/>
          </a:xfrm>
          <a:prstGeom prst="rect">
            <a:avLst/>
          </a:prstGeom>
          <a:ln w="0">
            <a:noFill/>
          </a:ln>
        </p:spPr>
      </p:pic>
      <p:sp>
        <p:nvSpPr>
          <p:cNvPr id="6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4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50" name="PlaceHolder 3"/>
          <p:cNvSpPr>
            <a:spLocks noGrp="1"/>
          </p:cNvSpPr>
          <p:nvPr>
            <p:ph type="dt" idx="46"/>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51" name="PlaceHolder 4"/>
          <p:cNvSpPr>
            <a:spLocks noGrp="1"/>
          </p:cNvSpPr>
          <p:nvPr>
            <p:ph type="ftr" idx="4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52" name="PlaceHolder 5"/>
          <p:cNvSpPr>
            <a:spLocks noGrp="1"/>
          </p:cNvSpPr>
          <p:nvPr>
            <p:ph type="sldNum" idx="48"/>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4F3BE1-F1CE-4043-A473-82B6A53EAD3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8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90" name="Picture 7" descr="Droplets-HD-Content-R1d.png"/>
          <p:cNvPicPr/>
          <p:nvPr/>
        </p:nvPicPr>
        <p:blipFill>
          <a:blip r:embed="rId3"/>
          <a:stretch/>
        </p:blipFill>
        <p:spPr>
          <a:xfrm>
            <a:off x="0" y="0"/>
            <a:ext cx="12192120" cy="6858000"/>
          </a:xfrm>
          <a:prstGeom prst="rect">
            <a:avLst/>
          </a:prstGeom>
          <a:ln w="0">
            <a:noFill/>
          </a:ln>
        </p:spPr>
      </p:pic>
      <p:sp>
        <p:nvSpPr>
          <p:cNvPr id="6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9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93" name="PlaceHolder 3"/>
          <p:cNvSpPr>
            <a:spLocks noGrp="1"/>
          </p:cNvSpPr>
          <p:nvPr>
            <p:ph type="dt" idx="49"/>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94" name="PlaceHolder 4"/>
          <p:cNvSpPr>
            <a:spLocks noGrp="1"/>
          </p:cNvSpPr>
          <p:nvPr>
            <p:ph type="ftr" idx="5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95" name="PlaceHolder 5"/>
          <p:cNvSpPr>
            <a:spLocks noGrp="1"/>
          </p:cNvSpPr>
          <p:nvPr>
            <p:ph type="sldNum" idx="51"/>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693E71-2CCD-4A02-BEA6-8F65416A372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73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733" name="Picture 7" descr="Droplets-HD-Content-R1d.png"/>
          <p:cNvPicPr/>
          <p:nvPr/>
        </p:nvPicPr>
        <p:blipFill>
          <a:blip r:embed="rId3"/>
          <a:stretch/>
        </p:blipFill>
        <p:spPr>
          <a:xfrm>
            <a:off x="0" y="0"/>
            <a:ext cx="12192120" cy="6858000"/>
          </a:xfrm>
          <a:prstGeom prst="rect">
            <a:avLst/>
          </a:prstGeom>
          <a:ln w="0">
            <a:noFill/>
          </a:ln>
        </p:spPr>
      </p:pic>
      <p:sp>
        <p:nvSpPr>
          <p:cNvPr id="7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73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736" name="PlaceHolder 3"/>
          <p:cNvSpPr>
            <a:spLocks noGrp="1"/>
          </p:cNvSpPr>
          <p:nvPr>
            <p:ph type="dt" idx="52"/>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7" name="PlaceHolder 4"/>
          <p:cNvSpPr>
            <a:spLocks noGrp="1"/>
          </p:cNvSpPr>
          <p:nvPr>
            <p:ph type="ftr" idx="5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738" name="PlaceHolder 5"/>
          <p:cNvSpPr>
            <a:spLocks noGrp="1"/>
          </p:cNvSpPr>
          <p:nvPr>
            <p:ph type="sldNum" idx="54"/>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E0A0FD-9427-4AF5-B480-930601136C6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 name="Picture 7" descr="Droplets-HD-Title-R1d.png"/>
          <p:cNvPicPr/>
          <p:nvPr/>
        </p:nvPicPr>
        <p:blipFill>
          <a:blip r:embed="rId3"/>
          <a:stretch/>
        </p:blipFill>
        <p:spPr>
          <a:xfrm>
            <a:off x="0" y="0"/>
            <a:ext cx="12192120" cy="6858000"/>
          </a:xfrm>
          <a:prstGeom prst="rect">
            <a:avLst/>
          </a:prstGeom>
          <a:ln w="0">
            <a:noFill/>
          </a:ln>
        </p:spPr>
      </p:pic>
      <p:sp>
        <p:nvSpPr>
          <p:cNvPr id="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6" name="PlaceHolder 3"/>
          <p:cNvSpPr>
            <a:spLocks noGrp="1"/>
          </p:cNvSpPr>
          <p:nvPr>
            <p:ph type="dt" idx="4"/>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8" name="PlaceHolder 5"/>
          <p:cNvSpPr>
            <a:spLocks noGrp="1"/>
          </p:cNvSpPr>
          <p:nvPr>
            <p:ph type="sldNum" idx="6"/>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242FE2-BCD1-48F9-A876-ADFA0AC7015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8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86" name="Picture 7" descr="Droplets-HD-Content-R1d.png"/>
          <p:cNvPicPr/>
          <p:nvPr/>
        </p:nvPicPr>
        <p:blipFill>
          <a:blip r:embed="rId3"/>
          <a:stretch/>
        </p:blipFill>
        <p:spPr>
          <a:xfrm>
            <a:off x="0" y="0"/>
            <a:ext cx="12192120" cy="6858000"/>
          </a:xfrm>
          <a:prstGeom prst="rect">
            <a:avLst/>
          </a:prstGeom>
          <a:ln w="0">
            <a:noFill/>
          </a:ln>
        </p:spPr>
      </p:pic>
      <p:sp>
        <p:nvSpPr>
          <p:cNvPr id="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88"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89" name="PlaceHolder 3"/>
          <p:cNvSpPr>
            <a:spLocks noGrp="1"/>
          </p:cNvSpPr>
          <p:nvPr>
            <p:ph type="dt" idx="7"/>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1" name="PlaceHolder 5"/>
          <p:cNvSpPr>
            <a:spLocks noGrp="1"/>
          </p:cNvSpPr>
          <p:nvPr>
            <p:ph type="sldNum" idx="9"/>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5EEC0C-5B42-40B3-B922-994C94DE6AB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28"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29" name="Picture 7" descr="Droplets-HD-Content-R1d.png"/>
          <p:cNvPicPr/>
          <p:nvPr/>
        </p:nvPicPr>
        <p:blipFill>
          <a:blip r:embed="rId3"/>
          <a:stretch/>
        </p:blipFill>
        <p:spPr>
          <a:xfrm>
            <a:off x="0" y="0"/>
            <a:ext cx="12192120" cy="6858000"/>
          </a:xfrm>
          <a:prstGeom prst="rect">
            <a:avLst/>
          </a:prstGeom>
          <a:ln w="0">
            <a:noFill/>
          </a:ln>
        </p:spPr>
      </p:pic>
      <p:sp>
        <p:nvSpPr>
          <p:cNvPr id="1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31"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3" name="PlaceHolder 4"/>
          <p:cNvSpPr>
            <a:spLocks noGrp="1"/>
          </p:cNvSpPr>
          <p:nvPr>
            <p:ph type="ftr" idx="1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1038EC-DE57-4B72-9372-086F166BBCB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71"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72" name="Picture 7" descr="Droplets-HD-Content-R1d.png"/>
          <p:cNvPicPr/>
          <p:nvPr/>
        </p:nvPicPr>
        <p:blipFill>
          <a:blip r:embed="rId3"/>
          <a:stretch/>
        </p:blipFill>
        <p:spPr>
          <a:xfrm>
            <a:off x="0" y="0"/>
            <a:ext cx="12192120" cy="6858000"/>
          </a:xfrm>
          <a:prstGeom prst="rect">
            <a:avLst/>
          </a:prstGeom>
          <a:ln w="0">
            <a:noFill/>
          </a:ln>
        </p:spPr>
      </p:pic>
      <p:sp>
        <p:nvSpPr>
          <p:cNvPr id="1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74"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5" name="PlaceHolder 3"/>
          <p:cNvSpPr>
            <a:spLocks noGrp="1"/>
          </p:cNvSpPr>
          <p:nvPr>
            <p:ph type="dt" idx="13"/>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6" name="PlaceHolder 4"/>
          <p:cNvSpPr>
            <a:spLocks noGrp="1"/>
          </p:cNvSpPr>
          <p:nvPr>
            <p:ph type="ftr" idx="1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7" name="PlaceHolder 5"/>
          <p:cNvSpPr>
            <a:spLocks noGrp="1"/>
          </p:cNvSpPr>
          <p:nvPr>
            <p:ph type="sldNum" idx="15"/>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648276-9E6F-4E3B-9FB6-6B67251982C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14"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15" name="Picture 7" descr="Droplets-HD-Content-R1d.png"/>
          <p:cNvPicPr/>
          <p:nvPr/>
        </p:nvPicPr>
        <p:blipFill>
          <a:blip r:embed="rId3"/>
          <a:stretch/>
        </p:blipFill>
        <p:spPr>
          <a:xfrm>
            <a:off x="0" y="0"/>
            <a:ext cx="12192120" cy="6858000"/>
          </a:xfrm>
          <a:prstGeom prst="rect">
            <a:avLst/>
          </a:prstGeom>
          <a:ln w="0">
            <a:noFill/>
          </a:ln>
        </p:spPr>
      </p:pic>
      <p:sp>
        <p:nvSpPr>
          <p:cNvPr id="2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17"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8" name="PlaceHolder 3"/>
          <p:cNvSpPr>
            <a:spLocks noGrp="1"/>
          </p:cNvSpPr>
          <p:nvPr>
            <p:ph type="dt" idx="16"/>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9" name="PlaceHolder 4"/>
          <p:cNvSpPr>
            <a:spLocks noGrp="1"/>
          </p:cNvSpPr>
          <p:nvPr>
            <p:ph type="ftr" idx="1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20" name="PlaceHolder 5"/>
          <p:cNvSpPr>
            <a:spLocks noGrp="1"/>
          </p:cNvSpPr>
          <p:nvPr>
            <p:ph type="sldNum" idx="18"/>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9F79D1-8116-4C2A-9DFC-62F3729B634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57"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58" name="Picture 7" descr="Droplets-HD-Content-R1d.png"/>
          <p:cNvPicPr/>
          <p:nvPr/>
        </p:nvPicPr>
        <p:blipFill>
          <a:blip r:embed="rId3"/>
          <a:stretch/>
        </p:blipFill>
        <p:spPr>
          <a:xfrm>
            <a:off x="0" y="0"/>
            <a:ext cx="12192120" cy="6858000"/>
          </a:xfrm>
          <a:prstGeom prst="rect">
            <a:avLst/>
          </a:prstGeom>
          <a:ln w="0">
            <a:noFill/>
          </a:ln>
        </p:spPr>
      </p:pic>
      <p:sp>
        <p:nvSpPr>
          <p:cNvPr id="2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6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61" name="PlaceHolder 3"/>
          <p:cNvSpPr>
            <a:spLocks noGrp="1"/>
          </p:cNvSpPr>
          <p:nvPr>
            <p:ph type="dt" idx="19"/>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2" name="PlaceHolder 4"/>
          <p:cNvSpPr>
            <a:spLocks noGrp="1"/>
          </p:cNvSpPr>
          <p:nvPr>
            <p:ph type="ftr" idx="2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63" name="PlaceHolder 5"/>
          <p:cNvSpPr>
            <a:spLocks noGrp="1"/>
          </p:cNvSpPr>
          <p:nvPr>
            <p:ph type="sldNum" idx="21"/>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F2FAAD-DA5A-4FA5-B7D0-F17AC894509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0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01" name="Picture 7" descr="Droplets-HD-Content-R1d.png"/>
          <p:cNvPicPr/>
          <p:nvPr/>
        </p:nvPicPr>
        <p:blipFill>
          <a:blip r:embed="rId3"/>
          <a:stretch/>
        </p:blipFill>
        <p:spPr>
          <a:xfrm>
            <a:off x="0" y="0"/>
            <a:ext cx="12192120" cy="6858000"/>
          </a:xfrm>
          <a:prstGeom prst="rect">
            <a:avLst/>
          </a:prstGeom>
          <a:ln w="0">
            <a:noFill/>
          </a:ln>
        </p:spPr>
      </p:pic>
      <p:sp>
        <p:nvSpPr>
          <p:cNvPr id="3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0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04" name="PlaceHolder 3"/>
          <p:cNvSpPr>
            <a:spLocks noGrp="1"/>
          </p:cNvSpPr>
          <p:nvPr>
            <p:ph type="dt" idx="22"/>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5" name="PlaceHolder 4"/>
          <p:cNvSpPr>
            <a:spLocks noGrp="1"/>
          </p:cNvSpPr>
          <p:nvPr>
            <p:ph type="ftr" idx="2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06" name="PlaceHolder 5"/>
          <p:cNvSpPr>
            <a:spLocks noGrp="1"/>
          </p:cNvSpPr>
          <p:nvPr>
            <p:ph type="sldNum" idx="24"/>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468F50-C5F4-426C-934D-E3BEE0D83D6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4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44" name="Picture 7" descr="Droplets-HD-Content-R1d.png"/>
          <p:cNvPicPr/>
          <p:nvPr/>
        </p:nvPicPr>
        <p:blipFill>
          <a:blip r:embed="rId3"/>
          <a:stretch/>
        </p:blipFill>
        <p:spPr>
          <a:xfrm>
            <a:off x="0" y="0"/>
            <a:ext cx="12192120" cy="6858000"/>
          </a:xfrm>
          <a:prstGeom prst="rect">
            <a:avLst/>
          </a:prstGeom>
          <a:ln w="0">
            <a:noFill/>
          </a:ln>
        </p:spPr>
      </p:pic>
      <p:sp>
        <p:nvSpPr>
          <p:cNvPr id="3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4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47" name="PlaceHolder 3"/>
          <p:cNvSpPr>
            <a:spLocks noGrp="1"/>
          </p:cNvSpPr>
          <p:nvPr>
            <p:ph type="dt" idx="25"/>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6"/>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49" name="PlaceHolder 5"/>
          <p:cNvSpPr>
            <a:spLocks noGrp="1"/>
          </p:cNvSpPr>
          <p:nvPr>
            <p:ph type="sldNum" idx="27"/>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E0A18E-5A9F-484B-874E-742F81C74F7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914040" y="618840"/>
            <a:ext cx="10363320" cy="561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w Cen MT"/>
                <a:cs typeface="Times New Roman"/>
              </a:rPr>
              <a:t>بهای ثابت</a:t>
            </a:r>
            <a:r>
              <a:rPr b="0" lang="fa-IR" sz="3200" spc="-1" strike="noStrike">
                <a:solidFill>
                  <a:srgbClr val="000000"/>
                </a:solidFill>
                <a:latin typeface="Tw Cen MT"/>
                <a:ea typeface="Times New Roman"/>
              </a:rPr>
              <a:t> </a:t>
            </a:r>
            <a:endParaRPr b="0" lang="en-US" sz="3200" spc="-1" strike="noStrike">
              <a:solidFill>
                <a:srgbClr val="000000"/>
              </a:solidFill>
              <a:latin typeface="Tw Cen MT"/>
            </a:endParaRPr>
          </a:p>
        </p:txBody>
      </p:sp>
      <p:sp>
        <p:nvSpPr>
          <p:cNvPr id="776" name=""/>
          <p:cNvSpPr txBox="1"/>
          <p:nvPr/>
        </p:nvSpPr>
        <p:spPr>
          <a:xfrm>
            <a:off x="914040" y="1114200"/>
            <a:ext cx="10363320" cy="467676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بهاهایی هستند که مبلغ کل آنها در یک دوره زمانی معین در یک دامنه مربوط با تغییر عامل بها تغییر نمی کنند اما نرخ آنها برای هر واحد از عامل بها ثابت نیست و متناسب با افزایش عامل بها کاهش می یابد .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777" name="Picture 5" descr=""/>
          <p:cNvPicPr/>
          <p:nvPr/>
        </p:nvPicPr>
        <p:blipFill>
          <a:blip r:embed="rId1"/>
          <a:stretch/>
        </p:blipFill>
        <p:spPr>
          <a:xfrm>
            <a:off x="0" y="1866960"/>
            <a:ext cx="9848880" cy="5057640"/>
          </a:xfrm>
          <a:prstGeom prst="rect">
            <a:avLst/>
          </a:prstGeom>
          <a:ln w="0">
            <a:noFill/>
          </a:ln>
        </p:spPr>
      </p:pic>
      <p:pic>
        <p:nvPicPr>
          <p:cNvPr id="778" name="26.3gp" descr=""/>
          <p:cNvPicPr/>
          <p:nvPr/>
        </p:nvPicPr>
        <p:blipFill>
          <a:blip r:embed="rId2"/>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78"/>
                    </p:tgtEl>
                  </p:cond>
                </p:stCondLst>
                <p:childTnLst>
                  <p:par>
                    <p:cTn id="3" nodeType="clickEffect" fill="hold">
                      <p:stCondLst>
                        <p:cond evt="onClick">
                          <p:tgtEl>
                            <p:spTgt spid="778"/>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316992" fill="hold"/>
                                        <p:tgtEl>
                                          <p:spTgt spid="7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914040" y="0"/>
            <a:ext cx="10363320" cy="1563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بهای مخلوط</a:t>
            </a:r>
            <a:endParaRPr b="0" lang="en-US" sz="3600" spc="-1" strike="noStrike">
              <a:solidFill>
                <a:srgbClr val="000000"/>
              </a:solidFill>
              <a:latin typeface="Tw Cen MT"/>
            </a:endParaRPr>
          </a:p>
        </p:txBody>
      </p:sp>
      <p:sp>
        <p:nvSpPr>
          <p:cNvPr id="780" name=""/>
          <p:cNvSpPr txBox="1"/>
          <p:nvPr/>
        </p:nvSpPr>
        <p:spPr>
          <a:xfrm>
            <a:off x="914040" y="2048040"/>
            <a:ext cx="10363320" cy="374328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بهای مخلوط که بهای نیمه متغیر نیز نامیده می شود بهایی است که بخش از آن ثابت و بخشی متغیر است . مانند بهای آب و برق مصرفی که آبونمان آن بخش ثابت بوده که به میزان مصرف ارتباطی ندارد اما بش دیگر آن متغیر است که با میزان مصرف افزایش می یابد . با ذکر یک مثال معادله ونمودارهای آن را توضیح می دهیم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781" name="27.3gp" descr=""/>
          <p:cNvPicPr/>
          <p:nvPr/>
        </p:nvPicPr>
        <p:blipFill>
          <a:blip r:embed="rId1"/>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781"/>
                    </p:tgtEl>
                  </p:cond>
                </p:stCondLst>
                <p:childTnLst>
                  <p:par>
                    <p:cTn id="9" nodeType="clickEffect" fill="hold">
                      <p:stCondLst>
                        <p:cond evt="onClick">
                          <p:tgtEl>
                            <p:spTgt spid="781"/>
                          </p:tgtEl>
                        </p:cond>
                      </p:stCondLst>
                      <p:childTnLst>
                        <p:par>
                          <p:cTn id="10" nodeType="withEffect" fill="hold">
                            <p:stCondLst>
                              <p:cond delay="0"/>
                            </p:stCondLst>
                            <p:childTnLst>
                              <p:par>
                                <p:cTn id="11" nodeType="clickEffect" fill="hold" presetClass="mediacall" presetID="1">
                                  <p:stCondLst>
                                    <p:cond delay="0"/>
                                  </p:stCondLst>
                                  <p:childTnLst>
                                    <p:cmd type="call" cmd="playFrom(0.0)">
                                      <p:cBhvr>
                                        <p:cTn id="12" dur="54101" fill="hold"/>
                                        <p:tgtEl>
                                          <p:spTgt spid="7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2" name="Picture 1" descr=""/>
          <p:cNvPicPr/>
          <p:nvPr/>
        </p:nvPicPr>
        <p:blipFill>
          <a:blip r:embed="rId1"/>
          <a:stretch/>
        </p:blipFill>
        <p:spPr>
          <a:xfrm>
            <a:off x="146160" y="109440"/>
            <a:ext cx="12045960" cy="6748560"/>
          </a:xfrm>
          <a:prstGeom prst="rect">
            <a:avLst/>
          </a:prstGeom>
          <a:ln w="0">
            <a:noFill/>
          </a:ln>
        </p:spPr>
      </p:pic>
      <p:pic>
        <p:nvPicPr>
          <p:cNvPr id="783" name="28.3gp" descr=""/>
          <p:cNvPicPr/>
          <p:nvPr/>
        </p:nvPicPr>
        <p:blipFill>
          <a:blip r:embed="rId2"/>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783"/>
                    </p:tgtEl>
                  </p:cond>
                </p:stCondLst>
                <p:childTnLst>
                  <p:par>
                    <p:cTn id="15" nodeType="clickEffect" fill="hold">
                      <p:stCondLst>
                        <p:cond evt="onClick">
                          <p:tgtEl>
                            <p:spTgt spid="783"/>
                          </p:tgtEl>
                        </p:cond>
                      </p:stCondLst>
                      <p:childTnLst>
                        <p:par>
                          <p:cTn id="16" nodeType="withEffect" fill="hold">
                            <p:stCondLst>
                              <p:cond delay="0"/>
                            </p:stCondLst>
                            <p:childTnLst>
                              <p:par>
                                <p:cTn id="17" nodeType="clickEffect" fill="hold" presetClass="mediacall" presetID="1">
                                  <p:stCondLst>
                                    <p:cond delay="0"/>
                                  </p:stCondLst>
                                  <p:childTnLst>
                                    <p:cmd type="call" cmd="playFrom(0.0)">
                                      <p:cBhvr>
                                        <p:cTn id="18" dur="246776" fill="hold"/>
                                        <p:tgtEl>
                                          <p:spTgt spid="7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914040" y="146160"/>
            <a:ext cx="10363320" cy="777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نکات مربوط به بهای ثابت ، متغیر ، نیمه متغیر</a:t>
            </a:r>
            <a:endParaRPr b="0" lang="en-US" sz="3600" spc="-1" strike="noStrike">
              <a:solidFill>
                <a:srgbClr val="000000"/>
              </a:solidFill>
              <a:latin typeface="Tw Cen MT"/>
            </a:endParaRPr>
          </a:p>
        </p:txBody>
      </p:sp>
      <p:sp>
        <p:nvSpPr>
          <p:cNvPr id="785" name=""/>
          <p:cNvSpPr txBox="1"/>
          <p:nvPr/>
        </p:nvSpPr>
        <p:spPr>
          <a:xfrm>
            <a:off x="914040" y="923400"/>
            <a:ext cx="10363320" cy="486756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1</a:t>
            </a:r>
            <a:r>
              <a:rPr b="1" lang="fa-IR" sz="1800" spc="-1" strike="noStrike">
                <a:solidFill>
                  <a:srgbClr val="0070c0"/>
                </a:solidFill>
                <a:latin typeface="Tw Cen MT"/>
                <a:ea typeface="B Nazanin"/>
              </a:rPr>
              <a:t>- بهای متغیر هر واحد و بهای ثابت کل ثابت می باشند .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2</a:t>
            </a:r>
            <a:r>
              <a:rPr b="1" lang="fa-IR" sz="1800" spc="-1" strike="noStrike">
                <a:solidFill>
                  <a:srgbClr val="0070c0"/>
                </a:solidFill>
                <a:latin typeface="Tw Cen MT"/>
                <a:ea typeface="B Nazanin"/>
              </a:rPr>
              <a:t>- بهای متغیر کل افزایشی و صعودی بوده اما بهای ثابت هر واحد کاهشی و نزولی می باشند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3</a:t>
            </a:r>
            <a:r>
              <a:rPr b="1" lang="fa-IR" sz="1800" spc="-1" strike="noStrike">
                <a:solidFill>
                  <a:srgbClr val="0070c0"/>
                </a:solidFill>
                <a:latin typeface="Tw Cen MT"/>
                <a:ea typeface="B Nazanin"/>
              </a:rPr>
              <a:t>- شیب نمودار متغیر کل برابراست با بهای متغیر هر واحد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4</a:t>
            </a:r>
            <a:r>
              <a:rPr b="1" lang="fa-IR" sz="1800" spc="-1" strike="noStrike">
                <a:solidFill>
                  <a:srgbClr val="0070c0"/>
                </a:solidFill>
                <a:latin typeface="Tw Cen MT"/>
                <a:ea typeface="B Nazanin"/>
              </a:rPr>
              <a:t>- نمودار متغیر هر واحد و نمودار ثابت کل ، خطی و ثابت هستند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5</a:t>
            </a:r>
            <a:r>
              <a:rPr b="1" lang="fa-IR" sz="1800" spc="-1" strike="noStrike">
                <a:solidFill>
                  <a:srgbClr val="0070c0"/>
                </a:solidFill>
                <a:latin typeface="Tw Cen MT"/>
                <a:ea typeface="B Nazanin"/>
              </a:rPr>
              <a:t>- نمودار متغیر کل صعودی با شیب ثابت است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6</a:t>
            </a:r>
            <a:r>
              <a:rPr b="1" lang="fa-IR" sz="1800" spc="-1" strike="noStrike">
                <a:solidFill>
                  <a:srgbClr val="0070c0"/>
                </a:solidFill>
                <a:latin typeface="Tw Cen MT"/>
                <a:ea typeface="B Nazanin"/>
              </a:rPr>
              <a:t>- نمودار ثابت هر واحد غیر خطی و نزولی است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7</a:t>
            </a:r>
            <a:r>
              <a:rPr b="1" lang="fa-IR" sz="1800" spc="-1" strike="noStrike">
                <a:solidFill>
                  <a:srgbClr val="0070c0"/>
                </a:solidFill>
                <a:latin typeface="Tw Cen MT"/>
                <a:ea typeface="B Nazanin"/>
              </a:rPr>
              <a:t>- در حسابداری بهای تمام شده بها فقط به دو دسته تقسیم می شود ( ثابت و متغیر ) و در مورد بهای مخلوط بخش ثابت آن به بهای ثابت و بخش متغیر آن به بهای متغیراضافه می شود . </a:t>
            </a:r>
            <a:endParaRPr b="0" lang="en-US" sz="1800" spc="-1" strike="noStrike">
              <a:solidFill>
                <a:srgbClr val="000000"/>
              </a:solidFill>
              <a:latin typeface="Tw Cen MT"/>
            </a:endParaRPr>
          </a:p>
        </p:txBody>
      </p:sp>
      <p:pic>
        <p:nvPicPr>
          <p:cNvPr id="786" name="29.3gp" descr=""/>
          <p:cNvPicPr/>
          <p:nvPr/>
        </p:nvPicPr>
        <p:blipFill>
          <a:blip r:embed="rId1"/>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786"/>
                    </p:tgtEl>
                  </p:cond>
                </p:stCondLst>
                <p:childTnLst>
                  <p:par>
                    <p:cTn id="21" nodeType="clickEffect" fill="hold">
                      <p:stCondLst>
                        <p:cond evt="onClick">
                          <p:tgtEl>
                            <p:spTgt spid="786"/>
                          </p:tgtEl>
                        </p:cond>
                      </p:stCondLst>
                      <p:childTnLst>
                        <p:par>
                          <p:cTn id="22" nodeType="withEffect" fill="hold">
                            <p:stCondLst>
                              <p:cond delay="0"/>
                            </p:stCondLst>
                            <p:childTnLst>
                              <p:par>
                                <p:cTn id="23" nodeType="clickEffect" fill="hold" presetClass="mediacall" presetID="1">
                                  <p:stCondLst>
                                    <p:cond delay="0"/>
                                  </p:stCondLst>
                                  <p:childTnLst>
                                    <p:cmd type="call" cmd="playFrom(0.0)">
                                      <p:cBhvr>
                                        <p:cTn id="24" dur="98056" fill="hold"/>
                                        <p:tgtEl>
                                          <p:spTgt spid="7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914040" y="182160"/>
            <a:ext cx="10363320" cy="1033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مفروضات اصلی رفتا بها</a:t>
            </a:r>
            <a:endParaRPr b="0" lang="en-US" sz="3600" spc="-1" strike="noStrike">
              <a:solidFill>
                <a:srgbClr val="000000"/>
              </a:solidFill>
              <a:latin typeface="Tw Cen MT"/>
            </a:endParaRPr>
          </a:p>
        </p:txBody>
      </p:sp>
      <p:sp>
        <p:nvSpPr>
          <p:cNvPr id="788" name=""/>
          <p:cNvSpPr txBox="1"/>
          <p:nvPr/>
        </p:nvSpPr>
        <p:spPr>
          <a:xfrm>
            <a:off x="914040" y="1079640"/>
            <a:ext cx="10363320" cy="471168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1</a:t>
            </a:r>
            <a:r>
              <a:rPr b="1" lang="fa-IR" sz="1800" spc="-1" strike="noStrike">
                <a:solidFill>
                  <a:srgbClr val="0070c0"/>
                </a:solidFill>
                <a:latin typeface="Tw Cen MT"/>
                <a:ea typeface="B Nazanin"/>
              </a:rPr>
              <a:t>- تغییر در سطح عامل بها در یک دامنه مربوط رخ می دهد . منظور از دامنه مربوط محدوده ای از سطح فعالیت یا عامل بها است که در آن جمع بهای ثلبت کل و بهای متغیر هر واحد با تغییر سطح فعالیت یا عامل بها تغییر نکرده و ثابت می ماند . به عبارت دیگر دامنه مربوط عبارت است از حد فاصل بین حداقل و حداگثر سطح فعالیت یا عامل بها می باشد که در این حدفاصل بهای ثابت کا و بهای متغیر هر واحد ثابت می مانند .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2</a:t>
            </a:r>
            <a:r>
              <a:rPr b="1" lang="fa-IR" sz="1800" spc="-1" strike="noStrike">
                <a:solidFill>
                  <a:srgbClr val="0070c0"/>
                </a:solidFill>
                <a:latin typeface="Tw Cen MT"/>
                <a:ea typeface="B Nazanin"/>
              </a:rPr>
              <a:t>- رفتار بها را بایستی در یک دوره مشخص در نظر گرفت مثلا در مورد اجاره معمولا این مدت یکساله است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3</a:t>
            </a:r>
            <a:r>
              <a:rPr b="1" lang="fa-IR" sz="1800" spc="-1" strike="noStrike">
                <a:solidFill>
                  <a:srgbClr val="0070c0"/>
                </a:solidFill>
                <a:latin typeface="Tw Cen MT"/>
                <a:ea typeface="B Nazanin"/>
              </a:rPr>
              <a:t>- موضوع بهایابی یک موضوع خاص است و تمامی عوامل بر حسب آن سنجیده می شوند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4</a:t>
            </a:r>
            <a:r>
              <a:rPr b="1" lang="fa-IR" sz="1800" spc="-1" strike="noStrike">
                <a:solidFill>
                  <a:srgbClr val="0070c0"/>
                </a:solidFill>
                <a:latin typeface="Tw Cen MT"/>
                <a:ea typeface="B Nazanin"/>
              </a:rPr>
              <a:t>- تنها یک عامل بها وجود دارد و تاثیر سایر عوامل نادیده گرفته می شود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5</a:t>
            </a:r>
            <a:r>
              <a:rPr b="1" lang="fa-IR" sz="1800" spc="-1" strike="noStrike">
                <a:solidFill>
                  <a:srgbClr val="0070c0"/>
                </a:solidFill>
                <a:latin typeface="Tw Cen MT"/>
                <a:ea typeface="B Nazanin"/>
              </a:rPr>
              <a:t>- بها تنها به دو دسته ثابت و متغیر تقسیم می شود .</a:t>
            </a:r>
            <a:endParaRPr b="0" lang="en-US" sz="1800" spc="-1" strike="noStrike">
              <a:solidFill>
                <a:srgbClr val="000000"/>
              </a:solidFill>
              <a:latin typeface="Tw Cen MT"/>
            </a:endParaRPr>
          </a:p>
        </p:txBody>
      </p:sp>
      <p:pic>
        <p:nvPicPr>
          <p:cNvPr id="789" name="30.3gp" descr=""/>
          <p:cNvPicPr/>
          <p:nvPr/>
        </p:nvPicPr>
        <p:blipFill>
          <a:blip r:embed="rId1"/>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789"/>
                    </p:tgtEl>
                  </p:cond>
                </p:stCondLst>
                <p:childTnLst>
                  <p:par>
                    <p:cTn id="27" nodeType="clickEffect" fill="hold">
                      <p:stCondLst>
                        <p:cond evt="onClick">
                          <p:tgtEl>
                            <p:spTgt spid="789"/>
                          </p:tgtEl>
                        </p:cond>
                      </p:stCondLst>
                      <p:childTnLst>
                        <p:par>
                          <p:cTn id="28" nodeType="withEffect" fill="hold">
                            <p:stCondLst>
                              <p:cond delay="0"/>
                            </p:stCondLst>
                            <p:childTnLst>
                              <p:par>
                                <p:cTn id="29" nodeType="clickEffect" fill="hold" presetClass="mediacall" presetID="1">
                                  <p:stCondLst>
                                    <p:cond delay="0"/>
                                  </p:stCondLst>
                                  <p:childTnLst>
                                    <p:cmd type="call" cmd="playFrom(0.0)">
                                      <p:cBhvr>
                                        <p:cTn id="30" dur="127242" fill="hold"/>
                                        <p:tgtEl>
                                          <p:spTgt spid="7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914040" y="191880"/>
            <a:ext cx="10363320" cy="1298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جلسه چهارم</a:t>
            </a:r>
            <a:endParaRPr b="0" lang="en-US" sz="3600" spc="-1" strike="noStrike">
              <a:solidFill>
                <a:srgbClr val="000000"/>
              </a:solidFill>
              <a:latin typeface="Tw Cen MT"/>
            </a:endParaRPr>
          </a:p>
        </p:txBody>
      </p:sp>
      <p:sp>
        <p:nvSpPr>
          <p:cNvPr id="791" name=""/>
          <p:cNvSpPr txBox="1"/>
          <p:nvPr/>
        </p:nvSpPr>
        <p:spPr>
          <a:xfrm>
            <a:off x="914040" y="1490760"/>
            <a:ext cx="10363320" cy="430056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سر فصل مطالب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1</a:t>
            </a:r>
            <a:r>
              <a:rPr b="1" lang="fa-IR" sz="1800" spc="-1" strike="noStrike">
                <a:solidFill>
                  <a:srgbClr val="0070c0"/>
                </a:solidFill>
                <a:latin typeface="Tw Cen MT"/>
                <a:ea typeface="B Nazanin"/>
              </a:rPr>
              <a:t>- ارتباط رفتار بها و قابلیت رهگیری بها</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2</a:t>
            </a:r>
            <a:r>
              <a:rPr b="1" lang="fa-IR" sz="1800" spc="-1" strike="noStrike">
                <a:solidFill>
                  <a:srgbClr val="0070c0"/>
                </a:solidFill>
                <a:latin typeface="Tw Cen MT"/>
                <a:ea typeface="B Nazanin"/>
              </a:rPr>
              <a:t>- طبقه بندی بها بر مبنای ارتباط با محصول</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3</a:t>
            </a:r>
            <a:r>
              <a:rPr b="1" lang="fa-IR" sz="1800" spc="-1" strike="noStrike">
                <a:solidFill>
                  <a:srgbClr val="0070c0"/>
                </a:solidFill>
                <a:latin typeface="Tw Cen MT"/>
                <a:ea typeface="B Nazanin"/>
              </a:rPr>
              <a:t>-</a:t>
            </a:r>
            <a:r>
              <a:rPr b="1" lang="fa-IR" sz="1800" spc="-1" strike="noStrike">
                <a:solidFill>
                  <a:srgbClr val="000000"/>
                </a:solidFill>
                <a:latin typeface="Tw Cen MT"/>
                <a:ea typeface="B Nazanin"/>
              </a:rPr>
              <a:t> </a:t>
            </a:r>
            <a:r>
              <a:rPr b="1" lang="fa-IR" sz="1800" spc="-1" strike="noStrike">
                <a:solidFill>
                  <a:srgbClr val="0070c0"/>
                </a:solidFill>
                <a:latin typeface="Tw Cen MT"/>
                <a:cs typeface="B Nazanin"/>
              </a:rPr>
              <a:t>طبقه بندی بر مبنای ارتباط با حوزه عملکرد</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4</a:t>
            </a:r>
            <a:r>
              <a:rPr b="1" lang="fa-IR" sz="1800" spc="-1" strike="noStrike">
                <a:solidFill>
                  <a:srgbClr val="0070c0"/>
                </a:solidFill>
                <a:latin typeface="Tw Cen MT"/>
                <a:ea typeface="B Nazanin"/>
              </a:rPr>
              <a:t>- طبقه بندی بر مبنای دوره انتقاع</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5</a:t>
            </a:r>
            <a:r>
              <a:rPr b="1" lang="fa-IR" sz="1800" spc="-1" strike="noStrike">
                <a:solidFill>
                  <a:srgbClr val="0070c0"/>
                </a:solidFill>
                <a:latin typeface="Tw Cen MT"/>
                <a:ea typeface="B Nazanin"/>
              </a:rPr>
              <a:t>- طبقه بندی بر مبنای قابلیت کنترل</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792" name="31.3gp" descr=""/>
          <p:cNvPicPr/>
          <p:nvPr/>
        </p:nvPicPr>
        <p:blipFill>
          <a:blip r:embed="rId1"/>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792"/>
                    </p:tgtEl>
                  </p:cond>
                </p:stCondLst>
                <p:childTnLst>
                  <p:par>
                    <p:cTn id="33" nodeType="clickEffect" fill="hold">
                      <p:stCondLst>
                        <p:cond evt="onClick">
                          <p:tgtEl>
                            <p:spTgt spid="792"/>
                          </p:tgtEl>
                        </p:cond>
                      </p:stCondLst>
                      <p:childTnLst>
                        <p:par>
                          <p:cTn id="34" nodeType="withEffect" fill="hold">
                            <p:stCondLst>
                              <p:cond delay="0"/>
                            </p:stCondLst>
                            <p:childTnLst>
                              <p:par>
                                <p:cTn id="35" nodeType="clickEffect" fill="hold" presetClass="mediacall" presetID="1">
                                  <p:stCondLst>
                                    <p:cond delay="0"/>
                                  </p:stCondLst>
                                  <p:childTnLst>
                                    <p:cmd type="call" cmd="playFrom(0.0)">
                                      <p:cBhvr>
                                        <p:cTn id="36" dur="17879" fill="hold"/>
                                        <p:tgtEl>
                                          <p:spTgt spid="7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4-09T17:52:33Z</dcterms:created>
  <dc:creator>Windows User</dc:creator>
  <dc:description/>
  <dc:language>en-US</dc:language>
  <cp:lastModifiedBy>Windows User</cp:lastModifiedBy>
  <dcterms:modified xsi:type="dcterms:W3CDTF">2020-04-09T17:58:12Z</dcterms:modified>
  <cp:revision>2</cp:revision>
  <dc:subject/>
  <dc:title>PowerPoint Presentation</dc:title>
</cp:coreProperties>
</file>