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274-8A5F-4AA8-935C-7CBB2147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9EA-CD49-47CD-8FB3-C60DBAB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774-988C-438B-9185-64227E5D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2B9-4ED3-466D-9C84-5533B7F9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FC2B-4F54-42EE-9A77-F94560A3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C18E-2709-4193-A20F-E0752448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81F0-6906-4B65-BC8C-54C84472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71AF-FA51-4886-B05D-2C9F0602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AC9F-340F-4C05-A8A3-86CB9E23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F823-DBB1-4F3B-A7DE-14E11D7E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49E4-9D6E-47FA-94EB-F7D5E0D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22E-5F81-4B1A-8FC8-1F9272C9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C4FE-CB9D-491B-BB43-7BEB05DD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78B-BE4E-4413-85B5-C8413C43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0A2F-7AE6-4B52-BDEB-2EAA578B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9D52-6A74-4E2A-A515-81A7DBF2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2C13-3096-45C0-9C56-B9773789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0B11-0D9F-48C8-869F-C14D7F83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D6ED1-F977-4C8C-AA73-1F6FBDBB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22AC-8CB7-40B5-96BD-01C30C3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2CBA-77AF-4435-A113-B24613F6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787B-BAC2-4DA3-B6B5-E7FFDF41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15B-3678-485B-B7C8-1B71128E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6E42-402D-44C5-AD65-604E5FC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713D-24F6-44BF-A503-FD2F458F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9342-643C-4DEB-8BEA-7EFD8D8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EB380-000D-46D1-A643-16422F96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63194-1C1D-4614-9743-EA8E1119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65EA-EFB4-401C-9742-569A8E5B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D8FD-23E1-4FF5-ACB1-F6D1C97F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F46C-BCE1-41D7-83DD-811F29DE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AC390-1A41-49BE-B579-3C0AD6EC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510C0-0843-4915-A084-7105CA48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165-EB06-476D-82CF-687CAE8B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4B43-523B-4F2C-8C0F-A83B70EB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66010-2F22-40E2-9249-1C4EE58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951A-6554-4863-88AF-EC424967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3DB1-8C94-40EB-B56F-261445C4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6E93-1E3C-4095-A96D-488558C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E58F4-F9A3-42A1-9266-4905629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7BC2-0CAA-4ECE-8D92-951E0B7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E227-D237-43C7-9D97-33EAE92D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CE6E-B1C7-4A43-87BB-058B3170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BB4-1484-4873-B965-4D00507F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DFB-30BF-4604-998C-44AB88DE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430-170C-4EBE-98A2-9DCE97B0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2FA-AA31-4F52-856A-BFBAC8BD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82C-4B71-4913-9BCE-AECBAF2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99243-79C0-43CF-9DCB-4A7827C7857A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2564B-B9EC-4935-BB4D-DE96762A5B23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52D33-91EA-45AF-9772-AAFEE74F3F8D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C25ED-2297-4FEC-8859-DF1C7B7592A9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200" y="1018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ebuchet MS"/>
                <a:cs typeface="B Nazanin"/>
              </a:rPr>
              <a:t>چراغ راهنماي تغذيه اي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تهیه کننده : مریم آزاد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براي محاسبه  رنگ مورد نظر اطلاعات زير ضروري است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Content Placeholder 3" descr=""/>
          <p:cNvPicPr/>
          <p:nvPr/>
        </p:nvPicPr>
        <p:blipFill>
          <a:blip r:embed="rId1"/>
          <a:stretch/>
        </p:blipFill>
        <p:spPr>
          <a:xfrm>
            <a:off x="1500120" y="1716120"/>
            <a:ext cx="7159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ي تغذيه اي با نشانگرهاي رنگ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1582560" y="2162160"/>
            <a:ext cx="6786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5680" y="277920"/>
            <a:ext cx="85978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مواد غذایی جامد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5359680" cy="499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881680" y="2766960"/>
            <a:ext cx="2882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784080" y="295200"/>
            <a:ext cx="8124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249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قاشق غذاخوری ژله 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.22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هر قاشق از ماده غذایی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.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اسید چرب ترانس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1185840" y="449280"/>
            <a:ext cx="76057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2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0.3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نمک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برچسب گذاری چراغ راهنماي تغذيه ا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675320" y="1776240"/>
            <a:ext cx="4024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چراغ راهنما به صورت برچسب روي مواد غذايي درج مي شود و از سه 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تشکيل شده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مفيد بودن ماده غذايي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اخطار و احتياط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نشان دهنده مضر بودن آن ماده غذايي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اهداف برچسب گذاری چراغ راهنماي تغذيه اي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77880" y="1589040"/>
            <a:ext cx="85964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نشانگرهای رنگ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انرژي بر اساس کيلو کالري در هر سهم ماده غذايي يا در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گرم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نمک (کلريد سديم)، چربي کل، اسيدهاي چرب ترانس، قند </a:t>
            </a:r>
            <a:r>
              <a:rPr b="0" lang="fa-IR" sz="2000" spc="-1" strike="noStrike">
                <a:solidFill>
                  <a:srgbClr val="000000"/>
                </a:solidFill>
                <a:latin typeface="Trebuchet MS"/>
                <a:ea typeface="B Nazanin"/>
              </a:rPr>
              <a:t>(کل قندهاي منو و دي ساکاريد آزاد به غير از پلي اولها)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بر حسب گرم در هر سهم مواد غذايي يا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 گرم 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27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. تعداد سهم ماده غذايي موجود در بسته بندي به صورتي که قابل تشخيص و قابل درک براي مصرف کننده باش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ثال : در مواردي که بسته بندي شامل چند سهم از ماده غذايي مربوطه است بايد ذکر شود. مثلا اينکه " اين اطلاعات براي يک برش پيتزا ، يا يک همبرگر " و از اين قبيل است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77520" y="809640"/>
            <a:ext cx="85964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4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خصيص نشانگرهاي رنگي هر کدام از موارد ذکر شده در بند 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2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5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وليد کنندگان يا واردکنندگان مي توانند همراه نشانگرهاي رنگي از لغات توصيفي " زياد" ، "متوسط"، يا "اندک" به طور هم زمان استفاده کنن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Trebuchet MS"/>
                <a:cs typeface="B Nazanin"/>
              </a:rPr>
              <a:t>نکات تکمیل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80840" y="1715760"/>
            <a:ext cx="8597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دازه سهم به صورت قابل تشخيص و درک براي مصرف کننده (مثلا يک همبرگر، يک چهارم برش کيک) 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تعداد سهم موجود در بسته بندي ماده غذايي مورد نظر مشخص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يزان انرژي به کيلو کالري و نمک، چربي کل، اسيدهاي چرب ترانس، و قند بر حسب گرم در هر سهم ماده غذايي مورد نظر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0T17:17:34Z</dcterms:created>
  <dc:creator>Windows User</dc:creator>
  <dc:description/>
  <dc:language>en-US</dc:language>
  <cp:lastModifiedBy>Windows User</cp:lastModifiedBy>
  <dcterms:modified xsi:type="dcterms:W3CDTF">2020-03-10T18:38:29Z</dcterms:modified>
  <cp:revision>5</cp:revision>
  <dc:subject/>
  <dc:title>PowerPoint Presentation</dc:title>
</cp:coreProperties>
</file>