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E808-255F-4051-B524-4C363EB2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29C0-7AD6-4584-B57F-2A68A788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0299-D77A-41A1-8EB4-93EEF0AD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CE60-381D-4BAF-8C5D-7792D4463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47EA-5FF7-410E-9679-69D8B8DE0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7A37-9296-4700-B1E0-F83F9ED9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6343-F734-49EC-9146-23C50C5D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1641-D644-4F9C-B1DB-E248156E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B87E-464D-4830-A338-D648770C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B89E-5366-4594-848E-99ABCFE2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9482-F89C-4E07-80E5-8CD98F87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3598-8BB8-47E4-BB95-73255332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80EE-5C81-4628-B0DB-05A78770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F5D1-7607-4596-87C9-A494A9F3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959A-8CCB-43A9-9856-6670BF0A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0379-B521-4E44-8E7A-E1273CD5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D705-6C07-4FB2-A433-5EB7558C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4FD9C-3C53-488B-AB73-895A89BAF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C8B46-A614-4A63-8820-724DBC25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A0D93-C276-46E8-835E-B108096A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6073F-F010-4031-93C9-D1155A60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9434D-076B-4516-A969-89EAF338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1ACE-52D8-4A23-A26E-E2781431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BE8BE-7118-4C2C-9748-827D84E1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AC9C7-5BB8-4DC5-9E94-875ACDAD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B8153-CE99-4286-8560-068B4E27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E00FD-CEA0-416F-8EA4-8328AD8C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10E31-B88F-42E0-934D-B880F2B4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10654-4AFD-405F-A841-B6EF8B99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D7E12-C8A8-4EB4-B3B1-A82481F9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1FACC-AA40-4348-BE3F-461FD681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671AF-0346-4715-A34D-947DB9B8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D20D5-9E94-4A91-890D-07BC9647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8E7F-FFE6-4689-BA26-8842268D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9A042-B97D-49ED-80AC-BEA6683C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FAFA4-AE1B-4E2E-999D-A494AD85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C76E0-58D8-445E-9EFB-DF457F86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F739F-7CE1-4896-9324-2D87B676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4F778-9585-4F3E-AEC8-7D8630DF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376BE-B282-4521-8AC5-60351612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6F5AA-E876-403E-A3EF-7D0B7235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2B1D0-DE25-4D2F-9D8B-6AD4EDEE2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71B60-26FE-4A85-A4A0-BCA3144C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3F8A-58E2-4264-818A-BF0D59D5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7E14-52F0-4A3D-82C1-047E9410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5195-557B-4DB8-819F-5CADB644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9435-C77A-4126-B15F-5A58ACD5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2F30-1A95-4048-A3F1-7FC838D5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  <a:ea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90c226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E6A108-900C-4A22-B12E-1D0CE92299C6}" type="slidenum">
              <a:rPr b="0" lang="fa-IR" sz="900" spc="-1" strike="noStrike">
                <a:solidFill>
                  <a:srgbClr val="90c226"/>
                </a:solidFill>
                <a:latin typeface="Times New Roman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18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9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32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6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37"/>
            <p:cNvSpPr/>
            <p:nvPr/>
          </p:nvSpPr>
          <p:spPr>
            <a:xfrm rot="10800000">
              <a:off x="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  <a:ea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90c226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DBFB58-F811-4738-9D5C-166897740EE6}" type="slidenum">
              <a:rPr b="0" lang="fa-IR" sz="900" spc="-1" strike="noStrike">
                <a:solidFill>
                  <a:srgbClr val="90c226"/>
                </a:solidFill>
                <a:latin typeface="Times New Roman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  <a:ea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90c226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5873C8-2CB3-479D-8A56-56ACD0197A2F}" type="slidenum">
              <a:rPr b="0" lang="fa-IR" sz="900" spc="-1" strike="noStrike">
                <a:solidFill>
                  <a:srgbClr val="90c226"/>
                </a:solidFill>
                <a:latin typeface="Times New Roman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  <a:ea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90c226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D51E12-A4EF-4A85-83E7-40BD4055F67F}" type="slidenum">
              <a:rPr b="0" lang="fa-IR" sz="900" spc="-1" strike="noStrike">
                <a:solidFill>
                  <a:srgbClr val="90c226"/>
                </a:solidFill>
                <a:latin typeface="Times New Roman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63200" y="1018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5400" spc="-1" strike="noStrike">
                <a:solidFill>
                  <a:srgbClr val="000000"/>
                </a:solidFill>
                <a:latin typeface="Trebuchet MS"/>
                <a:cs typeface="B Nazanin"/>
              </a:rPr>
              <a:t>چراغ راهنماي تغذيه اي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rebuchet MS"/>
                <a:cs typeface="B Nazanin"/>
              </a:rPr>
              <a:t>تهیه کننده : مریم آزادی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rebuchet MS"/>
                <a:cs typeface="B Nazanin"/>
              </a:rPr>
              <a:t>براي محاسبه  رنگ مورد نظر اطلاعات زير ضروري است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9" name="Content Placeholder 3" descr=""/>
          <p:cNvPicPr/>
          <p:nvPr/>
        </p:nvPicPr>
        <p:blipFill>
          <a:blip r:embed="rId1"/>
          <a:stretch/>
        </p:blipFill>
        <p:spPr>
          <a:xfrm>
            <a:off x="1500120" y="1716120"/>
            <a:ext cx="715968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rebuchet MS"/>
                <a:cs typeface="B Nazanin"/>
              </a:rPr>
              <a:t>مراحل برچسب گذاري تغذيه اي با نشانگرهاي رنگي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1" name="Content Placeholder 3" descr=""/>
          <p:cNvPicPr/>
          <p:nvPr/>
        </p:nvPicPr>
        <p:blipFill>
          <a:blip r:embed="rId1"/>
          <a:stretch/>
        </p:blipFill>
        <p:spPr>
          <a:xfrm>
            <a:off x="1582560" y="2162160"/>
            <a:ext cx="678672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15680" y="277920"/>
            <a:ext cx="859788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rebuchet MS"/>
                <a:cs typeface="B Nazanin"/>
              </a:rPr>
              <a:t>مواد غذایی جامد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3" name="Content Placeholder 3" descr=""/>
          <p:cNvPicPr/>
          <p:nvPr/>
        </p:nvPicPr>
        <p:blipFill>
          <a:blip r:embed="rId1"/>
          <a:stretch/>
        </p:blipFill>
        <p:spPr>
          <a:xfrm>
            <a:off x="2895480" y="1042920"/>
            <a:ext cx="5359680" cy="4998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5881680" y="2766960"/>
            <a:ext cx="28828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3" descr=""/>
          <p:cNvPicPr/>
          <p:nvPr/>
        </p:nvPicPr>
        <p:blipFill>
          <a:blip r:embed="rId1"/>
          <a:stretch/>
        </p:blipFill>
        <p:spPr>
          <a:xfrm>
            <a:off x="784080" y="295200"/>
            <a:ext cx="812484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624960" y="1063440"/>
            <a:ext cx="859644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یک قاشق غذاخوری ژله (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15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گرم) حاوی 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2.22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گرم قند می باشد با کدام رنگ در برچسب غذایی نشان داده می شود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هر قاشق از ماده غذایی(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15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گرم)  حاوی 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1.5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گرم اسید چرب ترانس می باشد با کدام رنگ در برچسب غذایی نشان داده می شود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Content Placeholder 3" descr=""/>
          <p:cNvPicPr/>
          <p:nvPr/>
        </p:nvPicPr>
        <p:blipFill>
          <a:blip r:embed="rId1"/>
          <a:stretch/>
        </p:blipFill>
        <p:spPr>
          <a:xfrm>
            <a:off x="1185840" y="449280"/>
            <a:ext cx="760572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a-IR" sz="3600" spc="-1" strike="noStrike">
              <a:solidFill>
                <a:srgbClr val="90c226"/>
              </a:solidFill>
              <a:latin typeface="Trebuchet MS"/>
              <a:ea typeface="Tahom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یک لیوان از نوشیدنی (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250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میلی لیتر) حاوی 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22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گرم قند می باشد با کدام رنگ در برچسب غذایی نشان داده می شود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یک لیوان از نوشیدنی (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250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میلی لیتر) حاوی 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0.3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گرم نمک می باشد با کدام رنگ در برچسب غذایی نشان داده می شود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rebuchet MS"/>
                <a:cs typeface="B Nazanin"/>
              </a:rPr>
              <a:t>برچسب گذاری چراغ راهنماي تغذيه اي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5" name="Content Placeholder 3" descr=""/>
          <p:cNvPicPr/>
          <p:nvPr/>
        </p:nvPicPr>
        <p:blipFill>
          <a:blip r:embed="rId1"/>
          <a:stretch/>
        </p:blipFill>
        <p:spPr>
          <a:xfrm>
            <a:off x="4675320" y="1776240"/>
            <a:ext cx="4024080" cy="38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a-IR" sz="3600" spc="-1" strike="noStrike">
              <a:solidFill>
                <a:srgbClr val="90c226"/>
              </a:solidFill>
              <a:latin typeface="Trebuchet MS"/>
              <a:ea typeface="Tahom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170000"/>
              </a:lnSpc>
              <a:spcBef>
                <a:spcPts val="1001"/>
              </a:spcBef>
              <a:spcAft>
                <a:spcPts val="187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Trebuchet MS"/>
                <a:cs typeface="B Nazanin"/>
              </a:rPr>
              <a:t>چراغ راهنما به صورت برچسب روي مواد غذايي درج مي شود و از سه رنگ </a:t>
            </a:r>
            <a:r>
              <a:rPr b="0" lang="fa-IR" sz="3000" spc="-1" strike="noStrike">
                <a:solidFill>
                  <a:srgbClr val="66ff33"/>
                </a:solidFill>
                <a:latin typeface="Trebuchet MS"/>
                <a:cs typeface="B Nazanin"/>
              </a:rPr>
              <a:t>سبز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cs typeface="B Nazanin"/>
              </a:rPr>
              <a:t>، </a:t>
            </a:r>
            <a:r>
              <a:rPr b="0" lang="fa-IR" sz="3000" spc="-1" strike="noStrike">
                <a:solidFill>
                  <a:srgbClr val="ffff00"/>
                </a:solidFill>
                <a:latin typeface="Trebuchet MS"/>
                <a:cs typeface="B Nazanin"/>
              </a:rPr>
              <a:t>زرد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ea typeface="B Nazanin"/>
              </a:rPr>
              <a:t> و </a:t>
            </a:r>
            <a:r>
              <a:rPr b="0" lang="fa-IR" sz="3000" spc="-1" strike="noStrike">
                <a:solidFill>
                  <a:srgbClr val="ff0000"/>
                </a:solidFill>
                <a:latin typeface="Trebuchet MS"/>
                <a:cs typeface="B Nazanin"/>
              </a:rPr>
              <a:t>قرمز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ea typeface="B Nazanin"/>
              </a:rPr>
              <a:t> تشکيل شده است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01680" indent="-301680" algn="r" rtl="1">
              <a:lnSpc>
                <a:spcPct val="170000"/>
              </a:lnSpc>
              <a:spcBef>
                <a:spcPts val="1001"/>
              </a:spcBef>
              <a:spcAft>
                <a:spcPts val="187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Trebuchet MS"/>
                <a:cs typeface="B Nazanin"/>
              </a:rPr>
              <a:t>رنگ </a:t>
            </a:r>
            <a:r>
              <a:rPr b="0" lang="fa-IR" sz="3000" spc="-1" strike="noStrike">
                <a:solidFill>
                  <a:srgbClr val="66ff33"/>
                </a:solidFill>
                <a:latin typeface="Trebuchet MS"/>
                <a:cs typeface="B Nazanin"/>
              </a:rPr>
              <a:t>سبز 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cs typeface="B Nazanin"/>
              </a:rPr>
              <a:t>نشان دهنده مفيد بودن ماده غذايي، </a:t>
            </a:r>
            <a:r>
              <a:rPr b="0" lang="fa-IR" sz="3000" spc="-1" strike="noStrike">
                <a:solidFill>
                  <a:srgbClr val="ffff00"/>
                </a:solidFill>
                <a:latin typeface="Trebuchet MS"/>
                <a:cs typeface="B Nazanin"/>
              </a:rPr>
              <a:t>زرد 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cs typeface="B Nazanin"/>
              </a:rPr>
              <a:t>نشان دهنده اخطار و احتياط و </a:t>
            </a:r>
            <a:r>
              <a:rPr b="0" lang="fa-IR" sz="3000" spc="-1" strike="noStrike">
                <a:solidFill>
                  <a:srgbClr val="ff0000"/>
                </a:solidFill>
                <a:latin typeface="Trebuchet MS"/>
                <a:cs typeface="B Nazanin"/>
              </a:rPr>
              <a:t>قرمز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ea typeface="B Nazanin"/>
              </a:rPr>
              <a:t> نشان دهنده مضر بودن آن ماده غذايي است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01680" indent="-3016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rebuchet MS"/>
                <a:cs typeface="B Nazanin"/>
              </a:rPr>
              <a:t>اهداف برچسب گذاری چراغ راهنماي تغذيه اي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9" name="Content Placeholder 3" descr=""/>
          <p:cNvPicPr/>
          <p:nvPr/>
        </p:nvPicPr>
        <p:blipFill>
          <a:blip r:embed="rId1"/>
          <a:stretch/>
        </p:blipFill>
        <p:spPr>
          <a:xfrm>
            <a:off x="677880" y="1589040"/>
            <a:ext cx="859644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Trebuchet MS"/>
                <a:cs typeface="B Nazanin"/>
              </a:rPr>
              <a:t>نشانگرهای رنگی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 algn="just" rtl="1">
              <a:lnSpc>
                <a:spcPct val="2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اطلاعات مرتبط با ميزان انرژي بر اساس کيلو کالري در هر سهم ماده غذايي يا در </a:t>
            </a:r>
            <a:r>
              <a:rPr b="0" lang="fa-IR" sz="2400" spc="-1" strike="noStrike">
                <a:solidFill>
                  <a:srgbClr val="000000"/>
                </a:solidFill>
                <a:latin typeface="Trebuchet MS"/>
                <a:ea typeface="B Nazanin"/>
              </a:rPr>
              <a:t>100</a:t>
            </a:r>
            <a:r>
              <a:rPr b="0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گرم/ ميلي ليتر مواد غذايي که سهم براي آنها تعريف نشده است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06080" indent="-406080" algn="just" rtl="1">
              <a:lnSpc>
                <a:spcPct val="2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اطلاعات مرتبط با ميزان نمک (کلريد سديم)، چربي کل، اسيدهاي چرب ترانس، قند </a:t>
            </a:r>
            <a:r>
              <a:rPr b="0" lang="fa-IR" sz="2000" spc="-1" strike="noStrike">
                <a:solidFill>
                  <a:srgbClr val="000000"/>
                </a:solidFill>
                <a:latin typeface="Trebuchet MS"/>
                <a:ea typeface="B Nazanin"/>
              </a:rPr>
              <a:t>(کل قندهاي منو و دي ساکاريد آزاد به غير از پلي اولها) </a:t>
            </a:r>
            <a:r>
              <a:rPr b="0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بر حسب گرم در هر سهم مواد غذايي يا </a:t>
            </a:r>
            <a:r>
              <a:rPr b="0" lang="fa-IR" sz="2400" spc="-1" strike="noStrike">
                <a:solidFill>
                  <a:srgbClr val="000000"/>
                </a:solidFill>
                <a:latin typeface="Trebuchet MS"/>
                <a:ea typeface="B Nazanin"/>
              </a:rPr>
              <a:t>100</a:t>
            </a:r>
            <a:r>
              <a:rPr b="0" lang="fa-IR" sz="2400" spc="-1" strike="noStrike">
                <a:solidFill>
                  <a:srgbClr val="000000"/>
                </a:solidFill>
                <a:latin typeface="Trebuchet MS"/>
                <a:ea typeface="B Nazanin"/>
              </a:rPr>
              <a:t> گرم / ميلي ليتر مواد غذايي که سهم براي آنها تعريف نشده است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06080" indent="-406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72760" y="1063440"/>
            <a:ext cx="859644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rebuchet MS"/>
                <a:ea typeface="B Nazanin"/>
              </a:rPr>
              <a:t>3</a:t>
            </a:r>
            <a:r>
              <a:rPr b="0" lang="fa-IR" sz="2800" spc="-1" strike="noStrike">
                <a:solidFill>
                  <a:srgbClr val="000000"/>
                </a:solidFill>
                <a:latin typeface="Trebuchet MS"/>
                <a:ea typeface="B Nazanin"/>
              </a:rPr>
              <a:t>. تعداد سهم ماده غذايي موجود در بسته بندي به صورتي که قابل تشخيص و قابل درک براي مصرف کننده باشد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r" rtl="1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rebuchet MS"/>
                <a:cs typeface="B Nazanin"/>
              </a:rPr>
              <a:t>مثال : در مواردي که بسته بندي شامل چند سهم از ماده غذايي مربوطه است بايد ذکر شود. مثلا اينکه " اين اطلاعات براي يک برش پيتزا ، يا يک همبرگر " و از اين قبيل است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677520" y="809640"/>
            <a:ext cx="859644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2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4</a:t>
            </a: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. تخصيص نشانگرهاي رنگي هر کدام از موارد ذکر شده در بند </a:t>
            </a: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2</a:t>
            </a: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lnSpc>
                <a:spcPct val="2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5</a:t>
            </a: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. توليد کنندگان يا واردکنندگان مي توانند همراه نشانگرهاي رنگي از لغات توصيفي " زياد" ، "متوسط"، يا "اندک" به طور هم زمان استفاده کنند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4800" spc="-1" strike="noStrike">
                <a:solidFill>
                  <a:srgbClr val="000000"/>
                </a:solidFill>
                <a:latin typeface="Trebuchet MS"/>
                <a:cs typeface="B Nazanin"/>
              </a:rPr>
              <a:t>نکات تکمیلی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Trebuchet MS"/>
                <a:cs typeface="B Nazanin"/>
              </a:rPr>
              <a:t>مراحل برچسب گذاری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780840" y="1715760"/>
            <a:ext cx="859788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52520" indent="-452520" algn="r" rtl="1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rebuchet MS"/>
                <a:cs typeface="B Nazanin"/>
              </a:rPr>
              <a:t>اندازه سهم به صورت قابل تشخيص و درک براي مصرف کننده (مثلا يک همبرگر، يک چهارم برش کيک) تعيين شود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52520" indent="-452520" algn="r" rtl="1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rebuchet MS"/>
                <a:cs typeface="B Nazanin"/>
              </a:rPr>
              <a:t>تعداد سهم موجود در بسته بندي ماده غذايي مورد نظر مشخص شود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52520" indent="-452520" algn="r" rtl="1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rebuchet MS"/>
                <a:cs typeface="B Nazanin"/>
              </a:rPr>
              <a:t>ميزان انرژي به کيلو کالري و نمک، چربي کل، اسيدهاي چرب ترانس، و قند بر حسب گرم در هر سهم ماده غذايي مورد نظرتعيين شود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52520" indent="-45252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0T17:17:34Z</dcterms:created>
  <dc:creator>Windows User</dc:creator>
  <dc:description/>
  <dc:language>en-US</dc:language>
  <cp:lastModifiedBy>Windows User</cp:lastModifiedBy>
  <dcterms:modified xsi:type="dcterms:W3CDTF">2020-03-10T18:38:29Z</dcterms:modified>
  <cp:revision>5</cp:revision>
  <dc:subject/>
  <dc:title>PowerPoint Presentation</dc:title>
</cp:coreProperties>
</file>