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34B-21A9-46D0-BBF7-BF753E26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46D-6B51-4F4D-8FB4-A1E3B716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994-1588-4DE1-A930-CBBBCEFD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46D-33C4-4F46-94AE-BD72CD47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C972-07A3-442F-B4C6-6AAA190D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15A1-DD1B-4DAF-800A-499C4DDC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B776-A204-4593-A09F-FA2861FF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EF8E-7B23-462B-86C4-23349BE1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BB82-302E-42C1-B374-A9BA939B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35B5-E432-436E-9C4F-F5D76174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E3DE-26E8-4E5D-B97B-7F006BBE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F33-E666-45AF-8A15-5A368F48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5B7F-E9EA-4CE0-B544-A5079B84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7DF0-6DAC-497C-BC73-CD8F6CD4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0691-0A0A-499D-AD86-985E15FB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A361-DDA6-4B03-80CB-851F5B05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D3A4-EC67-44A9-9B8C-5AA6F13E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672C-62F8-48F2-A2DD-614C708D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5422-A3C7-4DD0-9616-6D7B3635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BA51F-4935-472F-A202-C0CF14E3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8158-967C-4C1C-A03D-151FAE80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6FF1-4C48-402B-BF04-923084AC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84F-8E26-4DFE-8745-29F73754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E1BD-F5FB-4F96-AE3F-982C1FDC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0156E-7812-453D-9446-8C79E635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D54B3-67C7-4DAB-B9B6-DC68315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EBC4-0BB9-4A2C-B4D6-25981D8A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9FF9-4E09-44DC-8402-DF523648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26CC-8A4F-4281-9045-AB8AF658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2970-2A7A-4DFB-B01A-257EAC2A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665C1-98C5-4E02-A1AD-91F21A0B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2666-9808-401D-9330-AFFCE0BD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C24E1-D62D-4F10-8439-F401A6B2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792-E572-4A1C-8461-7ADA9CED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2F375-B1BF-43C8-898D-B292E82C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50747-F09A-418C-9564-ADE37F76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4BB8-7A60-4CF9-9B4D-7BB4359E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FADC1-0D70-47C3-AC26-89C35E89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31FEA-0D49-4751-9F9B-52EDFBD4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DFFFC-A2F8-46A8-A602-FAA36593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06383-0D6C-4015-954D-F959D6F5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AEB1F-E362-40F0-BA2C-3D828A15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D650A-9CD2-4969-A7D6-A8B7FAF6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92D-E9E0-4B3E-8AFB-E12D7529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0F3-5D23-4E69-8B84-DD3B4BB2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96F-A5DF-47F5-9718-8EC28BBD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DF5-7C75-4670-9AD3-6F04F436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2AD-CEE0-450F-B53B-6D88AAC8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A74E3-D55C-4D1E-A6A3-519FA4764C11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4097C-1CC8-4448-A62F-F1C290533D70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358BF-671F-418F-835F-BFE96A01E328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35A6F-F082-4E90-A5FD-53179880E513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63200" y="1018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ebuchet MS"/>
                <a:cs typeface="B Nazanin"/>
              </a:rPr>
              <a:t>چراغ راهنماي تغذيه اي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تهیه کننده : مریم آزاد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براي محاسبه  رنگ مورد نظر اطلاعات زير ضروري است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Content Placeholder 3" descr=""/>
          <p:cNvPicPr/>
          <p:nvPr/>
        </p:nvPicPr>
        <p:blipFill>
          <a:blip r:embed="rId1"/>
          <a:stretch/>
        </p:blipFill>
        <p:spPr>
          <a:xfrm>
            <a:off x="1500120" y="1716120"/>
            <a:ext cx="71596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ي تغذيه اي با نشانگرهاي رنگي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1582560" y="2162160"/>
            <a:ext cx="6786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5680" y="277920"/>
            <a:ext cx="859788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مواد غذایی جامد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Content Placeholder 3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5359680" cy="499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881680" y="2766960"/>
            <a:ext cx="2882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3" descr=""/>
          <p:cNvPicPr/>
          <p:nvPr/>
        </p:nvPicPr>
        <p:blipFill>
          <a:blip r:embed="rId1"/>
          <a:stretch/>
        </p:blipFill>
        <p:spPr>
          <a:xfrm>
            <a:off x="784080" y="295200"/>
            <a:ext cx="81248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249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قاشق غذاخوری ژله 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.22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هر قاشق از ماده غذایی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.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اسید چرب ترانس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Content Placeholder 3" descr=""/>
          <p:cNvPicPr/>
          <p:nvPr/>
        </p:nvPicPr>
        <p:blipFill>
          <a:blip r:embed="rId1"/>
          <a:stretch/>
        </p:blipFill>
        <p:spPr>
          <a:xfrm>
            <a:off x="1185840" y="449280"/>
            <a:ext cx="760572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2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0.3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نمک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برچسب گذاری چراغ راهنماي تغذيه اي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675320" y="1776240"/>
            <a:ext cx="4024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چراغ راهنما به صورت برچسب روي مواد غذايي درج مي شود و از سه 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تشکيل شده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مفيد بودن ماده غذايي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اخطار و احتياط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نشان دهنده مضر بودن آن ماده غذايي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اهداف برچسب گذاری چراغ راهنماي تغذيه اي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Content Placeholder 3" descr=""/>
          <p:cNvPicPr/>
          <p:nvPr/>
        </p:nvPicPr>
        <p:blipFill>
          <a:blip r:embed="rId1"/>
          <a:stretch/>
        </p:blipFill>
        <p:spPr>
          <a:xfrm>
            <a:off x="677880" y="1589040"/>
            <a:ext cx="85964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نشانگرهای رنگ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انرژي بر اساس کيلو کالري در هر سهم ماده غذايي يا در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گرم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نمک (کلريد سديم)، چربي کل، اسيدهاي چرب ترانس، قند </a:t>
            </a:r>
            <a:r>
              <a:rPr b="0" lang="fa-IR" sz="2000" spc="-1" strike="noStrike">
                <a:solidFill>
                  <a:srgbClr val="000000"/>
                </a:solidFill>
                <a:latin typeface="Trebuchet MS"/>
                <a:ea typeface="B Nazanin"/>
              </a:rPr>
              <a:t>(کل قندهاي منو و دي ساکاريد آزاد به غير از پلي اولها)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بر حسب گرم در هر سهم مواد غذايي يا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 گرم 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27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. تعداد سهم ماده غذايي موجود در بسته بندي به صورتي که قابل تشخيص و قابل درک براي مصرف کننده باش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ثال : در مواردي که بسته بندي شامل چند سهم از ماده غذايي مربوطه است بايد ذکر شود. مثلا اينکه " اين اطلاعات براي يک برش پيتزا ، يا يک همبرگر " و از اين قبيل است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77520" y="809640"/>
            <a:ext cx="859644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4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خصيص نشانگرهاي رنگي هر کدام از موارد ذکر شده در بند 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2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5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وليد کنندگان يا واردکنندگان مي توانند همراه نشانگرهاي رنگي از لغات توصيفي " زياد" ، "متوسط"، يا "اندک" به طور هم زمان استفاده کنن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Trebuchet MS"/>
                <a:cs typeface="B Nazanin"/>
              </a:rPr>
              <a:t>نکات تکمیلی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80840" y="1715760"/>
            <a:ext cx="8597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دازه سهم به صورت قابل تشخيص و درک براي مصرف کننده (مثلا يک همبرگر، يک چهارم برش کيک) 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تعداد سهم موجود در بسته بندي ماده غذايي مورد نظر مشخص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يزان انرژي به کيلو کالري و نمک، چربي کل، اسيدهاي چرب ترانس، و قند بر حسب گرم در هر سهم ماده غذايي مورد نظر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0T17:17:34Z</dcterms:created>
  <dc:creator>Windows User</dc:creator>
  <dc:description/>
  <dc:language>en-US</dc:language>
  <cp:lastModifiedBy>Windows User</cp:lastModifiedBy>
  <dcterms:modified xsi:type="dcterms:W3CDTF">2020-03-10T18:38:29Z</dcterms:modified>
  <cp:revision>5</cp:revision>
  <dc:subject/>
  <dc:title>PowerPoint Presentation</dc:title>
</cp:coreProperties>
</file>